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CFD219-F136-4835-85DD-41B58503A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cs typeface="Arial"/>
              </a:rPr>
              <a:t>يتلخص الهدف العام من هذه الحصة في توفير</a:t>
            </a:r>
            <a:r>
              <a:rPr b="0" lang="ar-SY" sz="1200" spc="-1" strike="noStrike">
                <a:solidFill>
                  <a:srgbClr val="000000"/>
                </a:solidFill>
                <a:latin typeface="Calibri"/>
                <a:ea typeface="Arial"/>
              </a:rPr>
              <a:t> </a:t>
            </a:r>
            <a:r>
              <a:rPr b="0" lang="ar-YE" sz="1200" spc="-1" strike="noStrike">
                <a:solidFill>
                  <a:srgbClr val="000000"/>
                </a:solidFill>
                <a:latin typeface="Calibri"/>
                <a:cs typeface="Arial"/>
              </a:rPr>
              <a:t>وجهات نظر ومشورة عملية للمشاركين حول كيفية الاستفادة الكاملة من قواعد المساعدة القانونية المتبادلة بطريقة أكثر </a:t>
            </a:r>
            <a:r>
              <a:rPr b="0" lang="ar-SY" sz="1200" spc="-1" strike="noStrike">
                <a:solidFill>
                  <a:srgbClr val="000000"/>
                </a:solidFill>
                <a:latin typeface="Calibri"/>
                <a:cs typeface="Arial"/>
              </a:rPr>
              <a:t>فعالية</a:t>
            </a:r>
            <a:r>
              <a:rPr b="0" lang="ar-YE" sz="1200" spc="-1" strike="noStrike">
                <a:solidFill>
                  <a:srgbClr val="000000"/>
                </a:solidFill>
                <a:latin typeface="Calibri"/>
                <a:cs typeface="Arial"/>
              </a:rPr>
              <a:t>، في قضايا </a:t>
            </a:r>
            <a:r>
              <a:rPr b="0" lang="ar-SY" sz="1200" spc="-1" strike="noStrike">
                <a:solidFill>
                  <a:srgbClr val="000000"/>
                </a:solidFill>
                <a:latin typeface="Calibri"/>
                <a:cs typeface="Arial"/>
              </a:rPr>
              <a:t>الجريمة </a:t>
            </a:r>
            <a:r>
              <a:rPr b="0" lang="ar-YE" sz="1200" spc="-1" strike="noStrike">
                <a:solidFill>
                  <a:srgbClr val="000000"/>
                </a:solidFill>
                <a:latin typeface="Calibri"/>
                <a:cs typeface="Arial"/>
              </a:rPr>
              <a:t>الإلكترونية أو الحالات التي يكون فيها</a:t>
            </a:r>
            <a:r>
              <a:rPr b="0" lang="ar-SY" sz="1200" spc="-1" strike="noStrike">
                <a:solidFill>
                  <a:srgbClr val="000000"/>
                </a:solidFill>
                <a:latin typeface="Calibri"/>
                <a:ea typeface="Arial"/>
              </a:rPr>
              <a:t> من الضروري</a:t>
            </a:r>
            <a:r>
              <a:rPr b="0" lang="ar-YE" sz="1200" spc="-1" strike="noStrike">
                <a:solidFill>
                  <a:srgbClr val="000000"/>
                </a:solidFill>
                <a:latin typeface="Calibri"/>
                <a:ea typeface="Arial"/>
              </a:rPr>
              <a:t> جمع الأدلة الإلكترونية في بلد آخر، مع </a:t>
            </a:r>
            <a:r>
              <a:rPr b="0" lang="ar-SY" sz="1200" spc="-1" strike="noStrike">
                <a:solidFill>
                  <a:srgbClr val="000000"/>
                </a:solidFill>
                <a:latin typeface="Calibri"/>
                <a:cs typeface="Arial"/>
              </a:rPr>
              <a:t>الامتثال دائما ل</a:t>
            </a:r>
            <a:r>
              <a:rPr b="0" lang="ar-YE" sz="1200" spc="-1" strike="noStrike">
                <a:solidFill>
                  <a:srgbClr val="000000"/>
                </a:solidFill>
                <a:latin typeface="Calibri"/>
                <a:cs typeface="Arial"/>
              </a:rPr>
              <a:t>لإطار القانوني الدولي والمحلي.</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27A7D-6FB9-4D46-97FA-8FCAEB501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نقلنا هذه الشفافة من المبادئ العامة المطبقة على </a:t>
            </a:r>
            <a:r>
              <a:rPr b="0" lang="ar-SY" sz="1200" spc="-1" strike="noStrike">
                <a:solidFill>
                  <a:srgbClr val="000000"/>
                </a:solidFill>
                <a:latin typeface="Sakkal Majalla"/>
                <a:cs typeface="Sakkal Majalla"/>
              </a:rPr>
              <a:t>المساعدة القانونية المتبادلة إلى الأدلة الإلكترونية المطلوبة من خلال قنوات التعاون القضائي الدولي.</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1126B-AA06-4CFA-8A0B-F9052EC62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C93F4-158D-4EB3-8CF2-8A9B6E11B03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خصص الشفافات من </a:t>
            </a:r>
            <a:r>
              <a:rPr b="0" lang="ar-SY" sz="1200" spc="-1" strike="noStrike">
                <a:solidFill>
                  <a:srgbClr val="000000"/>
                </a:solidFill>
                <a:latin typeface="Calibri"/>
                <a:ea typeface="Arial"/>
              </a:rPr>
              <a:t>13</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17</a:t>
            </a:r>
            <a:r>
              <a:rPr b="0" lang="ar-SY" sz="1200" spc="-1" strike="noStrike">
                <a:solidFill>
                  <a:srgbClr val="000000"/>
                </a:solidFill>
                <a:latin typeface="Calibri"/>
                <a:ea typeface="Arial"/>
              </a:rPr>
              <a:t> للإعداد الفعال لطلب المساعدة القانونية المتبادلة، بما في ذلك:</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ستخدام قنوات أخرى للتعاون، إن كان القانون المحلي يسمح بذلك</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ستخدام اتفاقية بودابست، عند الاقتضاء</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تحقق من المعلومات المستخدمة لصياغة طلب المساعدة القانونية المتبادلة.</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1E6DD-8C2D-48AA-8F3A-C46D1A5311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تهدف هذه الشفافة إلى جعل المشاركين يفكرون في الاحتمالات القانونية الأخرى بدلا من طلب المساعدة القانونية المتبادلة عندما يسمح قانونهم المحلي بذلك، حيث قد لا يكون دائمًا الأمر كذلك. ينبغي أن يتمكن المدرب بعد ذلك من التكيف مع القواعد والممارسات المحلية بخصوص هذا الموضوع. وهذه فرصة للمشاركة في مناقشة موجزة مع المشاركين حول ما يسمح أو لا يسمح به القانون المحلي. ينبغي على المشاركين غالبا التوصل إلى استنتاج مفاده أنه لا يتم تحديد كل شيء في قانونهم المحلي، ولكن قد لا يؤدي إلى استنتاج أن الأدلة لن تكون مقبولة في المحكمة.</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يمكن للمدرب أن يقدم أمثلة مفيدة إذا كانت لديه أي تجربة شخصية فيما يتعلق بالفئات الثلاث الرئيسية للمعلومات التي يمكن الحصول عليها بشكل قانوني دون طلب المساعدة القانونية المتبادلة</a:t>
            </a:r>
            <a:r>
              <a:rPr b="0" lang="fr-FR" sz="900" spc="-1" strike="noStrike">
                <a:solidFill>
                  <a:srgbClr val="000000"/>
                </a:solidFill>
                <a:latin typeface="Calibri"/>
              </a:rPr>
              <a:t>:</a:t>
            </a:r>
            <a:endParaRPr b="0" lang="en-US" sz="900" spc="-1" strike="noStrike">
              <a:solidFill>
                <a:srgbClr val="000000"/>
              </a:solidFill>
              <a:latin typeface="Calibri"/>
            </a:endParaRPr>
          </a:p>
          <a:p>
            <a:pPr algn="just" rtl="1">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قنوات التعاون البديلة </a:t>
            </a:r>
            <a:endParaRPr b="0" lang="en-US" sz="900" spc="-1" strike="noStrike">
              <a:solidFill>
                <a:srgbClr val="000000"/>
              </a:solidFill>
              <a:latin typeface="Calibri"/>
            </a:endParaRPr>
          </a:p>
          <a:p>
            <a:pPr algn="just" rtl="1">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المعلومات المتاحة للعموم</a:t>
            </a:r>
            <a:endParaRPr b="0" lang="en-US" sz="900" spc="-1" strike="noStrike">
              <a:solidFill>
                <a:srgbClr val="000000"/>
              </a:solidFill>
              <a:latin typeface="Calibri"/>
            </a:endParaRPr>
          </a:p>
          <a:p>
            <a:pPr algn="just" rtl="1">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المادة </a:t>
            </a:r>
            <a:r>
              <a:rPr b="0" lang="ar-SY" sz="900" spc="-1" strike="noStrike">
                <a:solidFill>
                  <a:srgbClr val="000000"/>
                </a:solidFill>
                <a:latin typeface="Calibri"/>
                <a:ea typeface="Arial"/>
              </a:rPr>
              <a:t>32</a:t>
            </a:r>
            <a:r>
              <a:rPr b="0" lang="ar-SY" sz="900" spc="-1" strike="noStrike">
                <a:solidFill>
                  <a:srgbClr val="000000"/>
                </a:solidFill>
                <a:latin typeface="Calibri"/>
                <a:ea typeface="Arial"/>
              </a:rPr>
              <a:t> من اتفاقية بودابست (تذكير إذا لزم الأمر بحصة التعاون الدولي)</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على سبيل المثال، يمكن الإشارة إلى أن الشرطة في بعض البلدان مثل كندا، مستقلة عن السلطة القضائية، وهي المسؤولة عن تقرير ما إذا كان مسموحًا لها بمشاركة تقارير الشرطة. وفي دول أخرى مثل فرنسا، تعمل الشرطة دائماً تحت إشراف السلطة القضائية، وبالتالي يُطلب منها دائمًا الرجوع إلى السلطة القضائية (المدعي العام أو القاضي).</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كما يمكن الإشارة فيما يتعلق بالمعلومات المتاحة للعموم بأنه لا توجد حاجة في معظم البلدان إلى القدرة على جمع المعلومات من جوجل، في حين أنه من المرجح أن تكون البيانات مخزنة في بلد آخر.</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ومن الأمثلة الأخرى عن المعلومات المتاحة للعموم، يمكن الإشارة إلى موقع «البحث عن سجين» المتاح للبحث عن سجين في السجون الفيدرالية الأمريكية (</a:t>
            </a:r>
            <a:r>
              <a:rPr b="0" lang="fr-FR" sz="900" spc="-1" strike="noStrike">
                <a:solidFill>
                  <a:srgbClr val="000000"/>
                </a:solidFill>
                <a:latin typeface="Calibri"/>
              </a:rPr>
              <a:t>www.bop.gov/inmateloc</a:t>
            </a:r>
            <a:r>
              <a:rPr b="0" lang="ar-SY" sz="900" spc="-1" strike="noStrike">
                <a:solidFill>
                  <a:srgbClr val="000000"/>
                </a:solidFill>
                <a:latin typeface="Calibri"/>
                <a:ea typeface="Arial"/>
              </a:rPr>
              <a:t>)</a:t>
            </a:r>
            <a:r>
              <a:rPr b="0" lang="fr-FR" sz="900" spc="-1" strike="noStrike">
                <a:solidFill>
                  <a:srgbClr val="000000"/>
                </a:solidFill>
                <a:latin typeface="Calibri"/>
              </a:rPr>
              <a:t>، </a:t>
            </a:r>
            <a:r>
              <a:rPr b="0" lang="ar-SY" sz="900" spc="-1" strike="noStrike">
                <a:solidFill>
                  <a:srgbClr val="000000"/>
                </a:solidFill>
                <a:latin typeface="Calibri"/>
                <a:cs typeface="Arial"/>
              </a:rPr>
              <a:t>أو موقع إلكتروني عام يسمح بالتحقق من رقم </a:t>
            </a:r>
            <a:r>
              <a:rPr b="0" lang="fr-FR" sz="900" spc="-1" strike="noStrike">
                <a:solidFill>
                  <a:srgbClr val="000000"/>
                </a:solidFill>
                <a:latin typeface="Calibri"/>
              </a:rPr>
              <a:t>IBAN</a:t>
            </a:r>
            <a:r>
              <a:rPr b="0" lang="fr-FR" sz="900" spc="-1" strike="noStrike">
                <a:solidFill>
                  <a:srgbClr val="000000"/>
                </a:solidFill>
                <a:latin typeface="Calibri"/>
              </a:rPr>
              <a:t> ، </a:t>
            </a:r>
            <a:r>
              <a:rPr b="0" lang="ar-SY" sz="900" spc="-1" strike="noStrike">
                <a:solidFill>
                  <a:srgbClr val="000000"/>
                </a:solidFill>
                <a:latin typeface="Calibri"/>
                <a:cs typeface="Arial"/>
              </a:rPr>
              <a:t>ومن ثم تحديد البنك وفرعه قبل صياغة طلب المساعدة القانونية المتبادلة </a:t>
            </a:r>
            <a:r>
              <a:rPr b="0" lang="fr-FR" sz="900" spc="-1" strike="noStrike">
                <a:solidFill>
                  <a:srgbClr val="000000"/>
                </a:solidFill>
                <a:latin typeface="Calibri"/>
              </a:rPr>
              <a:t>(</a:t>
            </a:r>
            <a:r>
              <a:rPr b="0" lang="fr-FR" sz="900" spc="-1" strike="noStrike">
                <a:solidFill>
                  <a:srgbClr val="000000"/>
                </a:solidFill>
                <a:latin typeface="Calibri"/>
              </a:rPr>
              <a:t>www.ibancalculator.com</a:t>
            </a:r>
            <a:r>
              <a:rPr b="0" lang="fr-FR" sz="900" spc="-1" strike="noStrike">
                <a:solidFill>
                  <a:srgbClr val="000000"/>
                </a:solidFill>
                <a:latin typeface="Calibri"/>
              </a:rPr>
              <a:t>)</a:t>
            </a:r>
            <a:r>
              <a:rPr b="0" lang="ar-SY" sz="900" spc="-1" strike="noStrike">
                <a:solidFill>
                  <a:srgbClr val="000000"/>
                </a:solidFill>
                <a:latin typeface="Calibri"/>
                <a:ea typeface="Arial"/>
              </a:rPr>
              <a:t>.</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فيما يتعلق بالمادة </a:t>
            </a:r>
            <a:r>
              <a:rPr b="0" lang="ar-SY" sz="900" spc="-1" strike="noStrike">
                <a:solidFill>
                  <a:srgbClr val="000000"/>
                </a:solidFill>
                <a:latin typeface="Calibri"/>
                <a:ea typeface="Arial"/>
              </a:rPr>
              <a:t>32</a:t>
            </a:r>
            <a:r>
              <a:rPr b="0" lang="ar-SY" sz="900" spc="-1" strike="noStrike">
                <a:solidFill>
                  <a:srgbClr val="000000"/>
                </a:solidFill>
                <a:latin typeface="Calibri"/>
                <a:ea typeface="Arial"/>
              </a:rPr>
              <a:t> من اتفاقية بودابست، ينبغي أن يكون المشاركون يعرفونها مسبقا من الحصص السابقة. ومع ذلك، ينبغي أن يحاول المدرب تحديد ما إذا كان من المفيد تذكير المشاركين بهذه الإمكانية القانونية بطريقة عملية: ما هي الحالات التي يسمح بها القانون المحلي؟ في أي حالات لا يسمح بها؟ لماذا ا؟</a:t>
            </a: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1A10B-987F-4F1A-9621-50A219DE3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المشاركين باستخدام الأدوات والشبكات القائمة من أجل تبسيط المساعدة القانونية المتبادلة، والتي قد تكون مفيدة أيضًا في مرحلة الصياغة للحصول على معلومات حول الشروط والمتطلبات الخاصة بالبلد.</a:t>
            </a: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كما تذكر المشاركين ب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من اتفاقية بودابست التي من المفروض أنه تم تدارسها في حصة التعاون الدولي. هذه الأداة هي شرط مسبق لتعزيز فعالية طلب المساعدة القانونية المتبادلة فيما يتعلق بالأدلة الإلكترونية.</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F4B81B-60E0-4711-ADF4-5C57E8BE97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المشاركين  بمادتين مهمتين من اتفاقية بودابست اللتين ينبغي أنه تم التطرق إليهما خلال الدورة التدريبية التمهيد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ضي المادة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من كل دولة طرف تنظيم نقطة اتصال على مدار الساعة طوال أيام الأسبوع لغرض إنشاء شبكة على مدار الساعة طوال أيام الأسبوع قادرة على الاستجابة للطلبات العاجلة. في بعض البلدان، وليس جميعها، تسمح شبكة </a:t>
            </a:r>
            <a:r>
              <a:rPr b="0" lang="ar-SY" sz="1200" spc="-1" strike="noStrike">
                <a:solidFill>
                  <a:srgbClr val="000000"/>
                </a:solidFill>
                <a:latin typeface="Calibri"/>
                <a:ea typeface="Arial"/>
              </a:rPr>
              <a:t>7/24</a:t>
            </a:r>
            <a:r>
              <a:rPr b="0" lang="ar-SY" sz="1200" spc="-1" strike="noStrike">
                <a:solidFill>
                  <a:srgbClr val="000000"/>
                </a:solidFill>
                <a:latin typeface="Calibri"/>
                <a:ea typeface="Arial"/>
              </a:rPr>
              <a:t> بالحصول على تبادل للمعلومات إلى حد ما. توفر الاتفاقية هذه الإمكانية. ومع ذلك، لا يسمح كل بلد بنقل المعلومات. علاوة على ذلك، وبما أن هذه الحصة مخصصة لاستخدام أدوات المساعدة القانونية المتبادلة، فإن هذه "الميزات الإضافية" التي ليست شائعة في كل بلد لن يتم تغطيتها، ولكن يمكن للمدرب شرحها بالتفصيل إذا كانت لديه معرفة بالإمكانيات التي توفرها نقطة الاتصال الوطنية في بلده.</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ركز هذه الشفافة على تذكير المتدربين بإمكانية استخدام 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وطلب التعجيل بحفظ بيانات الكمبيوتر المخزنة عبر شبكة </a:t>
            </a:r>
            <a:r>
              <a:rPr b="0" lang="ar-SY" sz="1200" spc="-1" strike="noStrike">
                <a:solidFill>
                  <a:srgbClr val="000000"/>
                </a:solidFill>
                <a:latin typeface="Calibri"/>
                <a:ea typeface="Arial"/>
              </a:rPr>
              <a:t>7/24</a:t>
            </a:r>
            <a:r>
              <a:rPr b="0" lang="ar-SY" sz="1200" spc="-1" strike="noStrike">
                <a:solidFill>
                  <a:srgbClr val="000000"/>
                </a:solidFill>
                <a:latin typeface="Calibri"/>
                <a:cs typeface="Arial"/>
              </a:rPr>
              <a:t>، قبل إرسال طلب المساعدة القانونية المتبادلة.</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CFD4A8-2522-45E5-A343-EEA8501A23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فسر هذه الشفافة والشفافة الموالية كيف ترتبط 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من اتفاقية بودابست بالمساعدة القانونية المتبادلة عمليا، ولماذا  يمكنها أن تعزز حظوظ تنفيذ طلب المساعدة القانونية المتبادلة.</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9CD4F-1423-4BA5-B530-786C6ADE10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فسر هذه الشفافة والشفافة السابقة كيف ترتبط 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من اتفاقية بودابست بالمساعدة القانونية المتبادلة عمليا، ولماذا  يمكنها أن تعزز حظوظ تنفيذ طلب المساعدة القانونية المتبادلة.</a:t>
            </a: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DDE6C-52AC-4E7D-847E-4969DA6003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المشاركين بالمعلومات الأساسية التي ينبغي التحقق منها عمد الشروع في صياغة طلب المساعدة القانونية المتبادلة. ينبغي أن يذكر المدرب المشاركين أن الصياغة ترتكز على أمرين اثنين:</a:t>
            </a:r>
            <a:endParaRPr b="0" lang="en-US" sz="1200" spc="-1" strike="noStrike">
              <a:solidFill>
                <a:srgbClr val="000000"/>
              </a:solidFill>
              <a:latin typeface="Calibri"/>
            </a:endParaRPr>
          </a:p>
          <a:p>
            <a:pPr algn="r" rtl="1">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شكل الطلب (الشروط والمتطلبات القانونية)</a:t>
            </a:r>
            <a:endParaRPr b="0" lang="en-US" sz="1200" spc="-1" strike="noStrike">
              <a:solidFill>
                <a:srgbClr val="000000"/>
              </a:solidFill>
              <a:latin typeface="Calibri"/>
            </a:endParaRPr>
          </a:p>
          <a:p>
            <a:pPr algn="r" rtl="1">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مضمون</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كلاهما مهمان من أجل أن يصل الطلب إلى السلطة الصحيحة وأن بتم تنفيذها.</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8D845-C67E-4B4C-8010-977584D94B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ؤكد هذه الشفافة على أهمية شروط ومتطلبات الشكل المنصوص عليها في اتفاقية / معاهدة.</a:t>
            </a: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ؤكد المدرب على أنه بمجرد التحقق من هذه الشروط المسبقة، فإنها تصبح مثل عملية تلقائية تستغرق وقتا أقل وتعزز في الوقت نفسه حظوظ تنفيذ الطلب بشكل أفضل.</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159A8-8A6C-4328-AD0F-76D9370808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ذكر الجزء الأول من العرض المشاركين بالمبادئ الرئيسية ل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تناول الجزء الثاني طريقة تعزيز الإعداد ل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قدم الجزء الثالث بعض النصائح لتحسين صياغة 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ركز الجزء الرابع على تلقي وتنفيذ 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لخص الجزء الخامس أهداف الحصة.</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42015-CC3F-4C66-9F8A-83BB7A646D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52B90-3F2A-490E-8021-DF1E759B4A2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ركز الشفافات من </a:t>
            </a:r>
            <a:r>
              <a:rPr b="0" lang="ar-SY" sz="1200" spc="-1" strike="noStrike">
                <a:solidFill>
                  <a:srgbClr val="000000"/>
                </a:solidFill>
                <a:latin typeface="Calibri"/>
                <a:ea typeface="Arial"/>
              </a:rPr>
              <a:t>19</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44</a:t>
            </a:r>
            <a:r>
              <a:rPr b="0" lang="ar-SY" sz="1200" spc="-1" strike="noStrike">
                <a:solidFill>
                  <a:srgbClr val="000000"/>
                </a:solidFill>
                <a:latin typeface="Calibri"/>
                <a:ea typeface="Arial"/>
              </a:rPr>
              <a:t> على مرحلة صياغة طلب المساعدة القانونية المتبادلة، من حيث شكلها ومنظرها إلى مضمونها والمعلومات الضرورية المعتاد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مخصصة لنموذج مجلس أوروبا لطلب المساعدة القانونية المتبادلة. يمكن للمدرب أن يتغاضى عنها نظرا لإكراهات ضيق الوقت. ومع ذلك، قد تكون مفيدة بالنسبة للمشاركين الذين يتساءلون عن الشكل الذي ينبغي أن تكون عليه طلبات المساعدة القانونية المتبادلة. بالنسبة لبلدان الاتحاد الأوروبي، أو للمشاركين المهتمين بنموذج الاتحاد الأوروبي، يمكن للمدرب أيضا أن يقرر إضافة نموذج للأمر الأوروبي للتحقيق، المتاح على الموقع الإلكتروني للشبكة القضائية الأوروبية إلى جانب الأمر التوجيهي رقم </a:t>
            </a:r>
            <a:r>
              <a:rPr b="0" lang="ar-SY" sz="1200" spc="-1" strike="noStrike">
                <a:solidFill>
                  <a:srgbClr val="000000"/>
                </a:solidFill>
                <a:latin typeface="Calibri"/>
                <a:ea typeface="Arial"/>
              </a:rPr>
              <a:t>2014/41</a:t>
            </a:r>
            <a:r>
              <a:rPr b="0" lang="ar-SY" sz="1200" spc="-1" strike="noStrike">
                <a:solidFill>
                  <a:srgbClr val="000000"/>
                </a:solidFill>
                <a:latin typeface="Calibri"/>
                <a:ea typeface="Arial"/>
              </a:rPr>
              <a:t>/</a:t>
            </a:r>
            <a:r>
              <a:rPr b="0" lang="fr-FR" sz="1200" spc="-1" strike="noStrike">
                <a:solidFill>
                  <a:srgbClr val="000000"/>
                </a:solidFill>
                <a:latin typeface="Calibri"/>
              </a:rPr>
              <a:t>UE</a:t>
            </a:r>
            <a:r>
              <a:rPr b="0" lang="ar-SY" sz="1200" spc="-1" strike="noStrike">
                <a:solidFill>
                  <a:srgbClr val="000000"/>
                </a:solidFill>
                <a:latin typeface="Calibri"/>
                <a:ea typeface="Arial"/>
              </a:rPr>
              <a:t> (</a:t>
            </a:r>
            <a:r>
              <a:rPr b="0" lang="fr-FR" sz="1200" spc="-1" strike="noStrike">
                <a:solidFill>
                  <a:srgbClr val="000000"/>
                </a:solidFill>
                <a:latin typeface="Calibri"/>
              </a:rPr>
              <a:t>http://eur-lex.europa.eu/legal-content/EN/TXT/HTML/?uri=CELEX:32014L0041&amp;from=EN</a:t>
            </a:r>
            <a:r>
              <a:rPr b="0" lang="ar-SY"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57DCF7-CBDE-4D7C-9416-01C98F4309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غياب نموذج عالمي موحد وفريد لطلبات المساعدة القانونية المتبادلة. وتبين الشفافات الموالية للمشاركين أنه على الرغم من ذلك، يكون القدر المعين من المعلومات المطلوبة غالبا نفس القدر.</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8CE21-8872-4C95-9032-DD2E027FA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الأمر الأوروبي للتحقيق الجديد الذي يجب استخدامه في كل الاتحاد الأوروبي، باستثناء فرق التحقيقات المشتركة (</a:t>
            </a:r>
            <a:r>
              <a:rPr b="0" lang="fr-FR" sz="1200" spc="-1" strike="noStrike">
                <a:solidFill>
                  <a:srgbClr val="000000"/>
                </a:solidFill>
                <a:latin typeface="Calibri"/>
              </a:rPr>
              <a:t>JITs</a:t>
            </a:r>
            <a:r>
              <a:rPr b="0" lang="ar-SY" sz="1200" spc="-1" strike="noStrike">
                <a:solidFill>
                  <a:srgbClr val="000000"/>
                </a:solidFill>
                <a:latin typeface="Calibri"/>
                <a:ea typeface="Arial"/>
              </a:rPr>
              <a:t>) ـ وباستثناء الدانمارك وإيرلاندا (اختارتا عدم الانضمام).</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بالنسبة لبلدان الاتحاد الأوروبي، أو للمشاركين المهتمين بنموذج الاتحاد الأوروبي، ثمة نموذج للأمر الأوروبي للتحقيق متاح على الموقع الإلكتروني للشبكة القضائية الأوروبية إلى جانب الأمر التوجيهي رقم </a:t>
            </a:r>
            <a:r>
              <a:rPr b="0" lang="ar-SY" sz="1200" spc="-1" strike="noStrike">
                <a:solidFill>
                  <a:srgbClr val="000000"/>
                </a:solidFill>
                <a:latin typeface="Calibri"/>
                <a:ea typeface="Arial"/>
              </a:rPr>
              <a:t>2014/41</a:t>
            </a:r>
            <a:r>
              <a:rPr b="0" lang="ar-SY" sz="1200" spc="-1" strike="noStrike">
                <a:solidFill>
                  <a:srgbClr val="000000"/>
                </a:solidFill>
                <a:latin typeface="Calibri"/>
                <a:ea typeface="Arial"/>
              </a:rPr>
              <a:t>/</a:t>
            </a:r>
            <a:r>
              <a:rPr b="0" lang="fr-FR" sz="1200" spc="-1" strike="noStrike">
                <a:solidFill>
                  <a:srgbClr val="000000"/>
                </a:solidFill>
                <a:latin typeface="Calibri"/>
              </a:rPr>
              <a:t>UE</a:t>
            </a:r>
            <a:r>
              <a:rPr b="0" lang="ar-SY" sz="1200" spc="-1" strike="noStrike">
                <a:solidFill>
                  <a:srgbClr val="000000"/>
                </a:solidFill>
                <a:latin typeface="Calibri"/>
                <a:ea typeface="Arial"/>
              </a:rPr>
              <a:t> (</a:t>
            </a:r>
            <a:r>
              <a:rPr b="0" lang="fr-FR" sz="1200" spc="-1" strike="noStrike">
                <a:solidFill>
                  <a:srgbClr val="000000"/>
                </a:solidFill>
                <a:latin typeface="Calibri"/>
              </a:rPr>
              <a:t>http://eur-lex.europa.eu/legal-content/EN/TXT/HTML/?uri=CELEX:32014L0041&amp;from=EN</a:t>
            </a:r>
            <a:r>
              <a:rPr b="0" lang="ar-SY"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F72F4-B0E1-4177-B7BA-5E0B35929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نموذج مجلس أوروبا لطلب المساعدة القانونية المتبادلة، الذي يعتبر دليلا وليس إلزاميا. وستعرض الشفافات الموالية الطلب النموذجي برمته.</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83ABE-DB62-4006-834C-943EFE1066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0B5C7-5AB0-4DAC-ABB8-B1883AFDA7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BB8CC3-2A1C-4C3B-B8A6-00468BE5D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831602-0E36-4962-B86D-E9B7F9271E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8811E-312B-4455-9D15-AF1EFA53C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للمشاركين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في نهاية هذه الحصة، ينبغي أن يكون المشاركون قادرين على:</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حسين </a:t>
            </a:r>
            <a:r>
              <a:rPr b="0" lang="ar-SA" sz="1200" spc="-1" strike="noStrike">
                <a:solidFill>
                  <a:srgbClr val="000000"/>
                </a:solidFill>
                <a:latin typeface="Sakkal Majalla"/>
                <a:cs typeface="Sakkal Majalla"/>
              </a:rPr>
              <a:t>أو </a:t>
            </a:r>
            <a:r>
              <a:rPr b="0" lang="ar-SY" sz="1200" spc="-1" strike="noStrike">
                <a:solidFill>
                  <a:srgbClr val="000000"/>
                </a:solidFill>
                <a:latin typeface="Sakkal Majalla"/>
                <a:cs typeface="Sakkal Majalla"/>
              </a:rPr>
              <a:t>تحديث معرفتهم ل</a:t>
            </a:r>
            <a:r>
              <a:rPr b="0" lang="ar-SA" sz="1200" spc="-1" strike="noStrike">
                <a:solidFill>
                  <a:srgbClr val="000000"/>
                </a:solidFill>
                <a:latin typeface="Sakkal Majalla"/>
                <a:cs typeface="Sakkal Majalla"/>
              </a:rPr>
              <a:t>لمبادئ </a:t>
            </a:r>
            <a:r>
              <a:rPr b="0" lang="ar-SY" sz="1200" spc="-1" strike="noStrike">
                <a:solidFill>
                  <a:srgbClr val="000000"/>
                </a:solidFill>
                <a:latin typeface="Sakkal Majalla"/>
                <a:cs typeface="Sakkal Majalla"/>
              </a:rPr>
              <a:t>العامة المتعلقة بالمساعدة </a:t>
            </a:r>
            <a:r>
              <a:rPr b="0" lang="ar-SA" sz="1200" spc="-1" strike="noStrike">
                <a:solidFill>
                  <a:srgbClr val="000000"/>
                </a:solidFill>
                <a:latin typeface="Sakkal Majalla"/>
                <a:cs typeface="Sakkal Majalla"/>
              </a:rPr>
              <a:t>القانونية المتبادلة</a:t>
            </a:r>
            <a:r>
              <a:rPr b="0" lang="ar-SY" sz="1200" spc="-1" strike="noStrike">
                <a:solidFill>
                  <a:srgbClr val="000000"/>
                </a:solidFill>
                <a:latin typeface="Sakkal Majalla"/>
                <a:cs typeface="Sakkal Majalla"/>
              </a:rPr>
              <a:t>؛</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معرفة طريقة تحسين صياغة طلب المساعدة القانونية المتبادلة ومن ثم تعزيز حظوظ تنفيذه،</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وخي مقاربة ترمي إلى مزيد من الفعالية والتعاون بين السلطات القضائية.</a:t>
            </a: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C9D572-F034-42DE-AE97-020008D4C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84320-8DC3-4A7A-9FE6-08EFD7E6CB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6E859-F0D7-4ECE-BB43-4B5DC437F1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45208-D471-411F-AD3A-F8B99B7108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62C57-2301-4DCE-A21C-99EE1DE43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B610B-2105-49FF-8B0A-5789C1F0F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Sakkal Majalla"/>
                <a:cs typeface="Sakkal Majalla"/>
              </a:rPr>
              <a:t>يمكن استخدام هذه الشفافة لمناقشة ضرورة توخي الدقة فيما يتعلق بالأدلة الإلكتروني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6DB15C-5199-4EBA-8CED-C32A15063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Sakkal Majalla"/>
                <a:cs typeface="Sakkal Majalla"/>
              </a:rPr>
              <a:t>يمكن استخدام هذه الشفافة لمناقشة ضرورة توخي الدقة فيما يتعلق بالأدلة الإلكترونية. وتعتبر فرصة أيضا للإشارة إلى أن الولايات المتحدة الأمريكية لا تنفذ طلبات المساعدة القانونية المتبادلة المتعلقة باعتراض الاتصالات في الوقت الحقيقي. وتكون الإمكانية الوحيدة المتاحة عندما تكون هنالك قضية أمريكية مفتوحة ويتم استخدامها للحصول على هذا الترخيص.</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C6CFD-86C1-45CC-A479-F4A6B3C5A2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8ACF1B-09A6-48A3-BFE0-486EC3CA4C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D06FF-5C2F-4DD4-A051-9C5EE8E91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9D382-EB4B-4295-8865-ED98792202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ركز الشفافات من </a:t>
            </a:r>
            <a:r>
              <a:rPr b="0" lang="ar-SY" sz="1200" spc="-1" strike="noStrike">
                <a:solidFill>
                  <a:srgbClr val="000000"/>
                </a:solidFill>
                <a:latin typeface="Calibri"/>
                <a:ea typeface="Arial"/>
              </a:rPr>
              <a:t>4</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11</a:t>
            </a:r>
            <a:r>
              <a:rPr b="0" lang="ar-SY" sz="1200" spc="-1" strike="noStrike">
                <a:solidFill>
                  <a:srgbClr val="000000"/>
                </a:solidFill>
                <a:latin typeface="Calibri"/>
                <a:ea typeface="Arial"/>
              </a:rPr>
              <a:t> على المبادئ العامة التي يجب أن ترتكز إليها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كتسي هذه المبادئ، التي عادة ما تكون مشتركة بين جميع الدول إلى حد ما، أهمية بالغة عند صياغة وتنفيذ طلب المساعدة القانوني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ستعرض المدرب جميع المواضيع التي تطرحها هذه الشفافات وأن يكملها عند الاقتضاء ببعض الاعتبارات المحلية، بغية ترسيخ هذه المبادئ في أذهان المشاركين لاستعمالها عند المشاركة في حصة صياغة طلبات المساعدة القانونية المتبادلة.</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E84EB-452F-446C-AF7A-EE73A67B4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على الرغم من أن متطلبات المعاهدات والاتفاقيات قد تختلف بشأن محتوى طلب المساعدة القانونية المتبادلة، فإن معظمها ومعظم الدول التي تنفذ الطلبات على أساس المعاملة بالمثل (أي خارج إطار اتفاقية أو معاهدة) تشترط البنود المذكورة أعلاه.</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23C68-2109-4FA7-9E03-2A1AD3CE70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للمدرب أن يعيد طرح اتفاقية بودابست للمناقشة عبر تذكير المشاركين أن اتفاقية بودابست هي آلية دولية توفر فصلا كاملا ساري التطبيق بشأن قواعد المساعدة القانونية المتبادلة الواجب اتباعها في غياب معاهدات أخرى.</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A1F88-C382-41BA-8C41-89EA7034B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ؤكد المدرب على دور التواصل في تبسيط طلب المساعدة القانونية المتبادلة، وأن يشدد عند الضرورة على أنه لا يتحايل على القنوات القانونية، ولكنه يهدف فقط إلى تسهيل فهم وتنفيذ الطلب الذي أرسل أو سيتم إرساله من خلال القنوات الرسمية.</a:t>
            </a: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لا تزال هناك الكثير من الطلبات في الممارسة القضائية التي لا تتضمن عنوان بريد إلكتروني أو معلومات حول اللغات التي تستخدمها السلطة مقدمة الطلب.</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5F5FDF-2F3B-476A-8CF3-5C74D88219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ؤكد هذه الشفافة على أهمية ملخص الوقائع، وهو شرط في معظم المعاهدات والاتفاقيات الدولية.</a:t>
            </a: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عتبر ملخص الوقائع أحد أهم أجزاء الطلبات، لأنه يحدد ما إذا كان من الممكن طلب إجراء تحقيق في البلد المطلوب منه المساعدة. يبدو أن هذه النصائح بسيطة ولكن من الناحية العملية، من الواضح تمامًا أنه ينبغي للقضاة والمدعين العامين تخصيص المزيد من الوقت لملخص الوقائع مع مراعاة هذه النصائح البسيطة، بدءًا بإدراك أنهم، هم فقط، من يعرفون قضيتهم بالتفصيل، وليس السلطة المطلوب منها المساعدة التي لا تتوفر، في كثير من الأحيان، إلا على طلب المساعدة القانونية المتبادلة من أجل إجراء توصيفها القانوني.</a:t>
            </a: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وينبغي أن يؤكد المدرب على ضرورة تخصيص بعض الوقت لملخص الوقائع الذي يجب أن يكون محددا وأن يمتثل للمعايير الممكنة للإثبات التي وضعتها بعض الدول من أجل التدابير القسرية، على سبيل المثال.</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B6494-19A3-4146-9C7F-1D44BB1E89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تضمن الشفافتان المواليتان مثالا عن الشروط والمتطلبات المحددة عند صياغة ملخص الوقائع: معيار السبب المحتمل الذي تشترطه الولايات المتحدة الأمريكية خاصة عندما بطلب محتوى البريد الإلكتروني.</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1ABF8-401B-4063-B138-94E30E573A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D3EA10D0-18E2-4391-B08A-7AA746E73514}" type="slidenum">
              <a:rPr b="0" lang="fr-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32AAF40C-0B0E-4444-98B6-5DA5C6711956}" type="slidenum">
              <a:rPr b="0" lang="fr-CA"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Times New Roman"/>
                <a:cs typeface="Arial"/>
              </a:rPr>
              <a:t>تلخص هذه الشفافة المعايير القانونية الثلاثة المختلفة التي تطلبها الولايات المتحدة عند طلب بيانات إلكترونية.</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Times New Roman"/>
                <a:cs typeface="Arial"/>
              </a:rPr>
              <a:t>يمكن أن يضيف المدرب إلى هذه الشفافة  معايير أخرى إذا كان مستئنسا بالنظام الأمريكي أو بمثال آخر من بلد مختلف عندما يكون ذلك ممكنًا.</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Times New Roman"/>
                <a:cs typeface="Arial"/>
              </a:rPr>
              <a:t>ومع ذلك، ينبغي أن يقتصر هذا العرض على وصف موضوعي لمتطلبات دولة ما في سياق القواعد العامة للمساعدة القانونية المتبادلة والمعاهدات والاتفاقيات ذات الصلة، حيث قد يكون لبعض البلدان متطلبات قد تتحايل بالفعل على القواعد التقليدية للمساعدة القانونية المتبادلة أو المعاهدات. وليس هذا موضوع هذه الحصة.</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نوع التدابير التي يجب طلبها والإمكانات القانونية من أجل تنفيذها.</a:t>
            </a: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F265E-3F9C-4522-AA3E-A52745A289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الوثائق التي يمكن أو ينبغي إرفاقها بطلب المساعدة القانونية المتبادلة، الخاضعة للشروط المنصوص عليها في المعاهدات أو الاتفاقيات ذات الص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 إغناء هذه الشفافة بأي شروط ومقتضيات أخرى ذات الصلة بمنطقته الجغرافية.</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A23FC-9246-43F8-8696-A782B4E702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إمكانية إرسال نسخة مسبقة من الطلب الرسمي بأي وسيلة إلى البلد المطلوب منه المساعد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ؤكد المدرب على أنه يمكن استخدام هذه الممارسة أيضًا عندما تشارك سلطات مركزية في عملية الإرسال، وأنه عندما يتم إرسال النسخة المسبقة عبر الدوائر الرسمية وفقًا لما تفتضيه الاتفاقية أو المعاهدة، يمكن الشروع في تنفيذ الطلب في وقت مبك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للمدرب أن يذكر أنه يتم إرسال نسخة مسبقة مباشرة إلى سلطة أجنبية ولكن المعاهدة ذات الصلة لا تسمح بذلك، وبحسب البلد المطلوب منه المساعدة، يجوز عدم تنفيذ الطلب. لذلك ينبغي أن تتبع النسخة المسبقة قنوات الإرسال التي أُنشئت في المعاهدة أو الاتفاقية ذات الصلة للحصول على نتيجة أفض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 أن يذكر هذه الإمكانية المنصوص عليها في المادة </a:t>
            </a:r>
            <a:r>
              <a:rPr b="0" lang="ar-SY" sz="1200" spc="-1" strike="noStrike">
                <a:solidFill>
                  <a:srgbClr val="000000"/>
                </a:solidFill>
                <a:latin typeface="Calibri"/>
                <a:ea typeface="Arial"/>
              </a:rPr>
              <a:t>3.25</a:t>
            </a:r>
            <a:r>
              <a:rPr b="0" lang="ar-SY" sz="1200" spc="-1" strike="noStrike">
                <a:solidFill>
                  <a:srgbClr val="000000"/>
                </a:solidFill>
                <a:latin typeface="Calibri"/>
                <a:ea typeface="Arial"/>
              </a:rPr>
              <a:t> من اتفاقية بودابست، والوارد وصفها في الشفافة الموالية.</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B135A-6B1E-4AF3-A1A4-41A5B2AC75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بس هذه الشفافة المادة </a:t>
            </a:r>
            <a:r>
              <a:rPr b="0" lang="ar-SY" sz="1200" spc="-1" strike="noStrike">
                <a:solidFill>
                  <a:srgbClr val="000000"/>
                </a:solidFill>
                <a:latin typeface="Calibri"/>
                <a:ea typeface="Arial"/>
              </a:rPr>
              <a:t>3.25</a:t>
            </a:r>
            <a:r>
              <a:rPr b="0" lang="ar-SY" sz="1200" spc="-1" strike="noStrike">
                <a:solidFill>
                  <a:srgbClr val="000000"/>
                </a:solidFill>
                <a:latin typeface="Calibri"/>
                <a:ea typeface="Arial"/>
              </a:rPr>
              <a:t> من اتفاقية بودابست المتعلقة باستخدام وسائل الاتصالات بغية إرسال طلبات المساعدة القانونية المتبادلة بشكل أكثر فعالية، وبالتالي، يمكن الاحتجاج بها في الحالات التي تكون فيها الأدلة الإلكترونية مطلوبة أو في الظروف العاجلة.</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4B33A-224A-408D-8D96-07682F5FD5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3FA20-2CCE-4680-9685-A7F00F3FAB9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تطرق هذا الجزء الرابع إلى تلقي وتنفيذ طلب المساعدة القانونية المتبادلة من الناحية العملية. هذا الجزء مقتضب نظرا لأنه ليس من الممكن وصف كل إمكانية قانونية تتعلق بمعاهدة أو اتفاقية سارية التطبيق وكذلك بنوع التدبير المطلوب. وبالتالي، يرمي هذا الجزء فقط إلى تقديم بعض النصائح للمشاركين حتى يتمكنوا من تبني مقاربة تسعى إلى تعاون أكثر فعالية، بدلا من مقاربة قانونية محضة، مع العمل في حدود ما يسمح به قانونهم الوطني والقانون الدولي.</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5D220F-1595-4BBB-8BF1-7E3B88BE3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هدف هذه الشفافة إلى تذكير المشاركين بأهمية التواصل كما سبق توضيح ذلك في الجزء المتعلق بصياغة طلبات المساعدة القانونية المتبادلة. ويعتبر التواصل مهما أيضا من طرف المتلقي.</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حتى عندما لا يكون ذلك مطلوبًا بموجب القانون، ينبغي تشجيع المشاركين على التواصل بشكل غير رسمي مع السلطة المقدمة للطلب من أجل إحاطتها علما بأنه سيتم تنفيذ المساعدة القانونية المتبادلة. ويكتسي ذلك أهمية بالغة عندما تكون القضية الجنائية سارية في الدولة مقدمة الطلب، لأن السلطة المقدمة للطلب قد لا تحصل على أي أخبار عن طلبها لشهور أو حتى لسنوات، وقد تقرر في مرحلة ما إغلاق القضية، بينما قد تكون السلطة المطلوبة تعمل على تنفيذ الطلب، أو أنها كانت ملزمة بتأجيل تنفيذ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جب أن يؤكد المدرب عند الضرورة على أن هذا التواصل يهدف إلى تبسيط وتعزيز فهم الطلب، وليس إلى التحايل على القنوات الرسمية للإرسال.</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74208-5173-469F-B8F5-7A04B82AA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أن هنالك مستويين من التحليل ينبغي على المتلقي محاولة التوفيق بينهم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تحليل القانوني (شكل الطلب، مضمون ا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تحليل الفعال (إذا لم يكن من الممكن إصدار أمر بالتدبير، هل يسمح الفانون المحلي بسبل قانونية أخرى لتحقيق نفس الهدف؟)</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6FE26-1DFC-472E-AABD-C83C117D6C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دم هذه الشفافة نصائح بسيطة للمشاركين من أجل تعزيز مقاربة الفعالية داخل الإطار القانوني في بلدهم.</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4D5F7B-4A56-46A2-86A2-A39EE12D7B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بس هذه الشفافة جزءا من المادة </a:t>
            </a:r>
            <a:r>
              <a:rPr b="0" lang="ar-SY" sz="1200" spc="-1" strike="noStrike">
                <a:solidFill>
                  <a:srgbClr val="000000"/>
                </a:solidFill>
                <a:latin typeface="Calibri"/>
                <a:ea typeface="Arial"/>
              </a:rPr>
              <a:t>27</a:t>
            </a:r>
            <a:r>
              <a:rPr b="0" lang="ar-SY" sz="1200" spc="-1" strike="noStrike">
                <a:solidFill>
                  <a:srgbClr val="000000"/>
                </a:solidFill>
                <a:latin typeface="Calibri"/>
                <a:ea typeface="Arial"/>
              </a:rPr>
              <a:t> من اتفاقية بودابست والذي يمكن أن يصبح الأساس القانوني للمساعدة القانونية المتبادلة في غياب معاهدات واتفاقيات أخرى سارية التطبيق.</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3E7377-CFC9-4F0F-AE44-79AD96B65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بس هذه الشفافة جزءا من المادة </a:t>
            </a:r>
            <a:r>
              <a:rPr b="0" lang="ar-SY" sz="1200" spc="-1" strike="noStrike">
                <a:solidFill>
                  <a:srgbClr val="000000"/>
                </a:solidFill>
                <a:latin typeface="Calibri"/>
                <a:ea typeface="Arial"/>
              </a:rPr>
              <a:t>27</a:t>
            </a:r>
            <a:r>
              <a:rPr b="0" lang="ar-SY" sz="1200" spc="-1" strike="noStrike">
                <a:solidFill>
                  <a:srgbClr val="000000"/>
                </a:solidFill>
                <a:latin typeface="Calibri"/>
                <a:ea typeface="Arial"/>
              </a:rPr>
              <a:t> من اتفاقية بودابست والذي يمكن أن يصبح الأساس القانوني للمساعدة القانونية المتبادلة في غياب معاهدات واتفاقيات أخرى سارية التطبيق.</a:t>
            </a: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1E94F-51E7-4327-8C92-06C8CD6E2F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ذكر المدرب المشاركين بأهم أحكام ومقتضيات القانون الوطني المنظم لتنفيذ طلبات المساعدة القانونية المتبادلة الدولية، عند الاقتضاء، أو تلخيص أهم المبادئ.</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A1EDAA-83F4-4181-AFC3-5220CA479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ذكر المدرب المشاركين بأهم أحكام ومقتضيات القانون الوطني المنظم لتنفيذ طلبات المساعدة القانونية المتبادلة الدولية، عند الاقتضاء، أو تلخيص أهم المبادئ.</a:t>
            </a: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800FFD-F6DF-4F2A-B2B3-D1083459A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ذكر المدرب المشاركين بأهم أحكام ومقتضيات القانون الوطني المنظم لتنفيذ طلبات المساعدة القانونية المتبادلة الدولية، عند الاقتضاء، أو تلخيص أهم المبادئ.</a:t>
            </a: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DEDD3-69DD-4656-98E8-2B01DC347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ستعرض هذه الشفافة أهم الأفكار المشتركة التي ترتكز عليها المعاهدات والمواثيق بشأن المساعدة القانونية المتبادلة.</a:t>
            </a: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 أن يوضحها من خلال أمثلة مستخلصة من النظام القانوني الوطني أو من قضية محلية طرحت بعض الإشكالات القانونية.</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6DC37-CBA9-4CBD-9F7A-E8583AA4EA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الأهداف الرئيسية ل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في نهاية هذه الحصة، يجب أن يكون المشاركون قد حققوا الأهداف التالية:</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حسين </a:t>
            </a:r>
            <a:r>
              <a:rPr b="0" lang="ar-SA" sz="1200" spc="-1" strike="noStrike">
                <a:solidFill>
                  <a:srgbClr val="000000"/>
                </a:solidFill>
                <a:latin typeface="Sakkal Majalla"/>
                <a:cs typeface="Sakkal Majalla"/>
              </a:rPr>
              <a:t>أو </a:t>
            </a:r>
            <a:r>
              <a:rPr b="0" lang="ar-SY" sz="1200" spc="-1" strike="noStrike">
                <a:solidFill>
                  <a:srgbClr val="000000"/>
                </a:solidFill>
                <a:latin typeface="Sakkal Majalla"/>
                <a:cs typeface="Sakkal Majalla"/>
              </a:rPr>
              <a:t>تحديث معرفتهم ل</a:t>
            </a:r>
            <a:r>
              <a:rPr b="0" lang="ar-SA" sz="1200" spc="-1" strike="noStrike">
                <a:solidFill>
                  <a:srgbClr val="000000"/>
                </a:solidFill>
                <a:latin typeface="Sakkal Majalla"/>
                <a:cs typeface="Sakkal Majalla"/>
              </a:rPr>
              <a:t>لمبادئ </a:t>
            </a:r>
            <a:r>
              <a:rPr b="0" lang="ar-SY" sz="1200" spc="-1" strike="noStrike">
                <a:solidFill>
                  <a:srgbClr val="000000"/>
                </a:solidFill>
                <a:latin typeface="Sakkal Majalla"/>
                <a:cs typeface="Sakkal Majalla"/>
              </a:rPr>
              <a:t>العامة المتعلقة بالمساعدة </a:t>
            </a:r>
            <a:r>
              <a:rPr b="0" lang="ar-SA" sz="1200" spc="-1" strike="noStrike">
                <a:solidFill>
                  <a:srgbClr val="000000"/>
                </a:solidFill>
                <a:latin typeface="Sakkal Majalla"/>
                <a:cs typeface="Sakkal Majalla"/>
              </a:rPr>
              <a:t>القانونية المتبادلة</a:t>
            </a:r>
            <a:r>
              <a:rPr b="0" lang="ar-SY" sz="1200" spc="-1" strike="noStrike">
                <a:solidFill>
                  <a:srgbClr val="000000"/>
                </a:solidFill>
                <a:latin typeface="Sakkal Majalla"/>
                <a:cs typeface="Sakkal Majalla"/>
              </a:rPr>
              <a:t>؛</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معرفة طريقة تحسين صياغة طلب المساعدة القانونية المتبادلة ومن ثم تعزيز حظوظ تنفيذه،</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وخي مقاربة ترمي إلى مزيد من الفعالية والتعاون بين السلطات القضائية.</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B212F-55A7-4CB6-B523-9591A54F414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cs typeface="Arial"/>
              </a:rPr>
              <a:t>تمارين تطبيقية (عند الاقتض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في بعض الحصص التدريبية، يمكن أن تركز حصة على تطبيق هذا العرض وعلى الصياغة والتحليل الفعليين ل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ين أن يسعوا في المستقبل إلى إضافة بعض التمارين إلى مواد التعليم، حيثما كانت الدورة التدريبية تتم في بيئة تتوفر على مرافق مناسب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cs typeface="Arial"/>
              </a:rPr>
              <a:t>التحقق من المعرف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لم يبرمج حاليا أي تحقق محدد من المعرفة بالإضافة إلى ما هو مشار إليه أعلاه. ولم يطلب أي تقييم رسمي.</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8FE6D-FF52-47D3-93CD-CF225FF10556}"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بعجالة بالمشاكل التي تطرحها الجريمة الإلكترونية والأدلة الإلكترونية في القضايا الدولية. وفي هذه المرحلة من البرنامج، ينبغي أن يكون المشاركون قد تعرفوا على هذه القضايا بالتفصيل في الدورة التمهيدية أو الدورة التدريبية القضائية المتقدمة (العروض العامة).</a:t>
            </a: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3EDEF4-842E-4DF7-B769-12BAF163F2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هدف هذه الشفافة إلى الإشارة إلى بعض الاختلافات الرئيسية بين قضية تقليدية "واقعية" وقضية الأدلة الرقمية من حيث الكشف عن جريمة وجمع الأدلة.</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أن يقدم المدرب توضيحات عن طريق إعطاء أمثلة عملية، من قبيل:</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rtl="1">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مقارنة حالة لعملية سطو على بنك (مدة التحضير، أو الوقت اللازم للانتقال إلى مسرح الجريمة، أو الوقت المتطلب للدخول إلى البنك، أو الوقت المستغرق للحصول على المال، أو الوقت المستغرق للفرار، البصمات أو آثار الحمض النووي التي تركت في مسرح الجريمة، وأحيانًا آثار الدم، والضحايا الذين يعرفون أنهم وقعوا ضحية لجريمة، الصدمات، ضباط الشرطة والخبراء يعرفون أين عليهم أن يذهبوا لجمع الأدلة... إلخ ... مقابل شركة علمت أنها وقعت ضحية لاختراق ضخم للبيانات في وقت غير محدد…إلخ…)</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بالإضافة إلى ذلك، ينبغي أن يؤكد المدرب على أن مبدأ الإقليمية أصبح يواجه صعوبات متزايدة في الجرائم الإلكترونية، على عكس الجريمة التقليدية التي غالباً ما تقع بسهولة ضمن ولاية قضائية محددة. ومع ذلك، بما أن هذه الجلسة مخصصة لموضوع المساعدة القانونية المتبادلة، التي تعتمد في الغالب على القانون الدولي (الاتفاقيات والمعاهدات)، ينبغي تذكير الطلاب أيضًا بأن القضاة يجب أن يلتزموا بالقانون ثم أن يبدؤوا في الابتكار والاجتهاد في حدود ما يسمح به القانون (وبعبارة أخرى، احترام القانون ولكن مع محاولة تحليله بشكل أكثر تحديدًا عندما يكون من شأنه أن يسمح بممارسات جديدة تتعلق بجمع الأدلة الإلكترونية).</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2199A-C0CE-44F3-A2E1-0B73F8CA8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هذه الشفافة ملخص للمعضلة الحالية المفصلة في الشفافتين </a:t>
            </a:r>
            <a:r>
              <a:rPr b="0" lang="ar-SY" sz="1200" spc="-1" strike="noStrike">
                <a:solidFill>
                  <a:srgbClr val="000000"/>
                </a:solidFill>
                <a:latin typeface="Calibri"/>
                <a:ea typeface="Arial"/>
              </a:rPr>
              <a:t>7</a:t>
            </a:r>
            <a:r>
              <a:rPr b="0" lang="ar-SY" sz="1200" spc="-1" strike="noStrike">
                <a:solidFill>
                  <a:srgbClr val="000000"/>
                </a:solidFill>
                <a:latin typeface="Calibri"/>
                <a:ea typeface="Arial"/>
              </a:rPr>
              <a:t> و</a:t>
            </a:r>
            <a:r>
              <a:rPr b="0" lang="ar-SY" sz="1200" spc="-1" strike="noStrike">
                <a:solidFill>
                  <a:srgbClr val="000000"/>
                </a:solidFill>
                <a:latin typeface="Calibri"/>
                <a:ea typeface="Arial"/>
              </a:rPr>
              <a:t>8</a:t>
            </a:r>
            <a:r>
              <a:rPr b="0" lang="ar-SY" sz="1200" spc="-1" strike="noStrike">
                <a:solidFill>
                  <a:srgbClr val="000000"/>
                </a:solidFill>
                <a:latin typeface="Calibri"/>
                <a:ea typeface="Arial"/>
              </a:rPr>
              <a:t>: ضرورة احترام القانون الدولي مقابل الحاجة إلى المزيد من الفعالية في مكافحة الجريمة الإلكترونية.</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FC4E1-D730-4012-899F-D46A37576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C1CC7-895E-4024-9420-A3B56C7A5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464C7-D977-43AF-AC6C-3C2B80CAC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8CB70-D59E-483A-9B0B-257AA5BD7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FBE0C-173D-471C-A022-7C0BAF2F5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E0292-F872-4CAD-AF60-0E730B358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B5199-A359-47BD-8C8F-00A4E738F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1D550-3F67-453D-AC37-F86DE5306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E69DC-B8C3-4B13-9990-7EA897E66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885F3-952F-4C1C-BA57-86C67CAE8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5D681-C234-4E8D-95AE-CED5AF741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7BC63-029C-45DD-B970-0E75F0118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8DEEB-C551-4E50-9ECA-86C44A8A1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1E112-8BBB-4794-8ADC-BAC821A947B7}"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D2ADF-9438-4460-B606-799B77851D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hyperlink" Target="http://www.coe.int/en/web/conventions/full-list/-/conventions/treaty/185"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5400" spc="-1" strike="noStrike">
                <a:solidFill>
                  <a:srgbClr val="000000"/>
                </a:solidFill>
                <a:latin typeface="Sakkal Majalla"/>
                <a:cs typeface="Sakkal Majalla"/>
              </a:rPr>
              <a:t>طلبات المساعدة القانونية المتبادلة</a:t>
            </a:r>
            <a:br>
              <a:rPr sz="5400"/>
            </a:br>
            <a:r>
              <a:rPr b="0" lang="ar-SA" sz="5400" spc="-1" strike="noStrike">
                <a:solidFill>
                  <a:srgbClr val="000000"/>
                </a:solidFill>
                <a:latin typeface="Sakkal Majalla"/>
                <a:cs typeface="Sakkal Majalla"/>
              </a:rPr>
              <a:t>التطبيقات العملية</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4464000"/>
            <a:ext cx="6400800" cy="1209600"/>
          </a:xfrm>
          <a:prstGeom prst="rect">
            <a:avLst/>
          </a:prstGeom>
          <a:noFill/>
          <a:ln w="0">
            <a:noFill/>
          </a:ln>
        </p:spPr>
        <p:txBody>
          <a:bodyPr anchor="t">
            <a:noAutofit/>
          </a:bodyPr>
          <a:p>
            <a:pPr indent="0" algn="ctr" rtl="1">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a6a6a6"/>
                </a:solidFill>
                <a:latin typeface="Sakkal Majalla"/>
                <a:ea typeface="Sakkal Majalla"/>
              </a:rPr>
              <a:t>  الحصة </a:t>
            </a:r>
            <a:r>
              <a:rPr b="0" lang="en-US" sz="3600" spc="-1" strike="noStrike">
                <a:solidFill>
                  <a:srgbClr val="a6a6a6"/>
                </a:solidFill>
                <a:latin typeface="Sakkal Majalla"/>
                <a:ea typeface="Sakkal Majalla"/>
              </a:rPr>
              <a:t>#</a:t>
            </a:r>
            <a:r>
              <a:rPr b="0" lang="ar-SY" sz="3600" spc="-1" strike="noStrike">
                <a:solidFill>
                  <a:srgbClr val="a6a6a6"/>
                </a:solidFill>
                <a:latin typeface="Sakkal Majalla"/>
                <a:cs typeface="Sakkal Majalla"/>
              </a:rPr>
              <a:t>؟</a:t>
            </a:r>
            <a:endParaRPr b="0" lang="en-US" sz="36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231FFD8-ED8B-4B12-8522-39122C6CE1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وضع الحالي:</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91000"/>
          </a:bodyPr>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لم تعد قنوات المساعدة القانونية المتبادلة ملائمة فيما يتعلق بالأدلة الإلكترونية</a:t>
            </a:r>
            <a:endParaRPr b="0" lang="en-US" sz="2400" spc="-1" strike="noStrike">
              <a:solidFill>
                <a:srgbClr val="000000"/>
              </a:solidFill>
              <a:latin typeface="Calibri"/>
            </a:endParaRPr>
          </a:p>
          <a:p>
            <a:pPr marL="312120" indent="-3121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علينا إيجاد سبل جديدة للتعاون فيما يتعلق بالأدلة الإلكترونية والجريمة الإلكترونية</a:t>
            </a:r>
            <a:endParaRPr b="0" lang="en-US" sz="2400" spc="-1" strike="noStrike">
              <a:solidFill>
                <a:srgbClr val="000000"/>
              </a:solidFill>
              <a:latin typeface="Calibri"/>
            </a:endParaRPr>
          </a:p>
          <a:p>
            <a:pPr marL="312120" indent="-312120" algn="ct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ct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u="sng">
                <a:solidFill>
                  <a:srgbClr val="ff0000"/>
                </a:solidFill>
                <a:uFillTx/>
                <a:latin typeface="Sakkal Majalla"/>
                <a:cs typeface="Sakkal Majalla"/>
              </a:rPr>
              <a:t>ومع ذلك:</a:t>
            </a:r>
            <a:endParaRPr b="0" lang="en-US" sz="2400" spc="-1" strike="noStrike">
              <a:solidFill>
                <a:srgbClr val="000000"/>
              </a:solidFill>
              <a:latin typeface="Calibri"/>
            </a:endParaRPr>
          </a:p>
          <a:p>
            <a:pPr marL="312120" indent="-3121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بقى المساعدة القانونية المتبادلة قناة التعاون الدولية المقبولة قانونيا</a:t>
            </a: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وبالتالي، يحتاج الممارسون إلى استخدام الإمكانات التي تتيحها المساعدة القانونية المتبادلة بشكل أفضل وكامل بغية تحسين نتائجها</a:t>
            </a:r>
            <a:endParaRPr b="0" lang="en-US" sz="2400" spc="-1" strike="noStrike">
              <a:solidFill>
                <a:srgbClr val="000000"/>
              </a:solidFill>
              <a:latin typeface="Calibri"/>
            </a:endParaRPr>
          </a:p>
          <a:p>
            <a:pPr marL="312120" indent="-3121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C061B8-15C6-420C-9CFC-32EF08E124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B0EED0-878A-4B24-AEE9-D0E76A3A39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جزء الثاني</a:t>
            </a:r>
            <a:br>
              <a:rPr sz="4400"/>
            </a:br>
            <a:r>
              <a:rPr b="1" lang="ar-SY" sz="4400" spc="-1" strike="noStrike">
                <a:solidFill>
                  <a:srgbClr val="000000"/>
                </a:solidFill>
                <a:latin typeface="Sakkal Majalla"/>
                <a:cs typeface="Sakkal Majalla"/>
              </a:rPr>
              <a:t>إعداد طلب المساعدة القانونية المتبادلة</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28D17B-26F4-4853-AFAF-661B5AFA43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قبل إرسال طلب المساعدة القانونية المتبادلة، ينبغي التحقق من هذه البدائل القانونية</a:t>
            </a:r>
            <a:r>
              <a:rPr b="1" lang="ar-SY" sz="3600" spc="-1" strike="noStrike">
                <a:solidFill>
                  <a:srgbClr val="000000"/>
                </a:solidFill>
                <a:latin typeface="Calibri"/>
                <a:ea typeface="Times New Roman"/>
              </a:rPr>
              <a:t>:</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fontScale="84000"/>
          </a:bodyPr>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000000"/>
                </a:solidFill>
                <a:latin typeface="Sakkal Majalla"/>
                <a:cs typeface="Sakkal Majalla"/>
              </a:rPr>
              <a:t>قنوات التعاون البديلة</a:t>
            </a:r>
            <a:r>
              <a:rPr b="0" lang="ar-SY" sz="3000" spc="-1" strike="noStrike">
                <a:solidFill>
                  <a:srgbClr val="000000"/>
                </a:solidFill>
                <a:latin typeface="Sakkal Majalla"/>
                <a:ea typeface="Sakkal Majalla"/>
              </a:rPr>
              <a:t> (مثلا التعاون بين مصالح الشرطة): </a:t>
            </a:r>
            <a:endParaRPr b="0" lang="en-US" sz="3000" spc="-1" strike="noStrike">
              <a:solidFill>
                <a:srgbClr val="000000"/>
              </a:solidFill>
              <a:latin typeface="Calibri"/>
            </a:endParaRPr>
          </a:p>
          <a:p>
            <a:pPr marL="288000" indent="-288000" algn="just" rtl="1">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ea typeface="Sakkal Majalla"/>
              </a:rPr>
              <a:t>	</a:t>
            </a:r>
            <a:r>
              <a:rPr b="0" lang="ar-SY" sz="3000" spc="-1" strike="noStrike">
                <a:solidFill>
                  <a:srgbClr val="000000"/>
                </a:solidFill>
                <a:latin typeface="Sakkal Majalla"/>
                <a:cs typeface="Sakkal Majalla"/>
              </a:rPr>
              <a:t>هل يسمح القانون المحلي بذلك؟ هل يسمح قانون البلد المطلوب منه المساعدة </a:t>
            </a:r>
            <a:r>
              <a:rPr b="0" lang="ar-SY" sz="3000" spc="-1" strike="noStrike">
                <a:solidFill>
                  <a:srgbClr val="000000"/>
                </a:solidFill>
                <a:latin typeface="Sakkal Majalla"/>
                <a:ea typeface="Sakkal Majalla"/>
              </a:rPr>
              <a:t>	</a:t>
            </a:r>
            <a:r>
              <a:rPr b="0" lang="ar-SY" sz="3000" spc="-1" strike="noStrike">
                <a:solidFill>
                  <a:srgbClr val="000000"/>
                </a:solidFill>
                <a:latin typeface="Sakkal Majalla"/>
                <a:cs typeface="Sakkal Majalla"/>
              </a:rPr>
              <a:t>بذلك؟</a:t>
            </a: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000000"/>
                </a:solidFill>
                <a:latin typeface="Sakkal Majalla"/>
                <a:cs typeface="Sakkal Majalla"/>
              </a:rPr>
              <a:t>معلومات متاحة للعموم </a:t>
            </a:r>
            <a:r>
              <a:rPr b="0" lang="ar-SY" sz="3000" spc="-1" strike="noStrike">
                <a:solidFill>
                  <a:srgbClr val="000000"/>
                </a:solidFill>
                <a:latin typeface="Sakkal Majalla"/>
                <a:ea typeface="Sakkal Majalla"/>
              </a:rPr>
              <a:t> يمكن الحصول عليها دون طلب المساعدة القانونية المتبادلة من خلال الإنترنت أو قواعد بيانات خاصة متاحة مجانيا أو مقابل رسوم (إن كان القانون المحلي يسمح بذلك)</a:t>
            </a: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000000"/>
                </a:solidFill>
                <a:latin typeface="Sakkal Majalla"/>
                <a:cs typeface="Sakkal Majalla"/>
              </a:rPr>
              <a:t>المادة </a:t>
            </a:r>
            <a:r>
              <a:rPr b="1" lang="ar-SY" sz="3000" spc="-1" strike="noStrike">
                <a:solidFill>
                  <a:srgbClr val="000000"/>
                </a:solidFill>
                <a:latin typeface="Sakkal Majalla"/>
                <a:ea typeface="Sakkal Majalla"/>
              </a:rPr>
              <a:t>32</a:t>
            </a:r>
            <a:r>
              <a:rPr b="1" lang="ar-SY" sz="3000" spc="-1" strike="noStrike">
                <a:solidFill>
                  <a:srgbClr val="000000"/>
                </a:solidFill>
                <a:latin typeface="Sakkal Majalla"/>
                <a:ea typeface="Sakkal Majalla"/>
              </a:rPr>
              <a:t>. أ من اتفاقية بودابست: </a:t>
            </a:r>
            <a:r>
              <a:rPr b="0" lang="ar-SY" sz="3000" spc="-1" strike="noStrike">
                <a:solidFill>
                  <a:srgbClr val="000000"/>
                </a:solidFill>
                <a:latin typeface="Sakkal Majalla"/>
                <a:cs typeface="Sakkal Majalla"/>
              </a:rPr>
              <a:t>النفاذ العابر للحدود إلى بيانات الكمبيوتر المخزنة مع التوفر على الموافقة </a:t>
            </a:r>
            <a:endParaRPr b="0" lang="en-US" sz="3000" spc="-1" strike="noStrike">
              <a:solidFill>
                <a:srgbClr val="000000"/>
              </a:solidFill>
              <a:latin typeface="Calibri"/>
            </a:endParaRPr>
          </a:p>
          <a:p>
            <a:pPr marL="288000" indent="-288000" algn="just">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71C6FA9-64E1-46B2-9C6C-05F2B19C29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إعداد طلب المساعدة القانونية المتبادلة بفعالية فيما يتعلق بالحصول على أدلة إلكترونية؟</a:t>
            </a:r>
            <a:endParaRPr b="0" lang="en-US" sz="3600" spc="-1" strike="noStrike">
              <a:solidFill>
                <a:srgbClr val="000000"/>
              </a:solidFill>
              <a:latin typeface="Calibri"/>
            </a:endParaRPr>
          </a:p>
        </p:txBody>
      </p:sp>
      <p:sp>
        <p:nvSpPr>
          <p:cNvPr id="89" name=""/>
          <p:cNvSpPr txBox="1"/>
          <p:nvPr/>
        </p:nvSpPr>
        <p:spPr>
          <a:xfrm>
            <a:off x="212400" y="2211480"/>
            <a:ext cx="8612280" cy="3868560"/>
          </a:xfrm>
          <a:prstGeom prst="rect">
            <a:avLst/>
          </a:prstGeom>
          <a:noFill/>
          <a:ln w="0">
            <a:noFill/>
          </a:ln>
        </p:spPr>
        <p:txBody>
          <a:bodyPr anchor="t">
            <a:normAutofit fontScale="89000"/>
          </a:bodyPr>
          <a:p>
            <a:pPr marL="305280" indent="-3052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ستخدام الشبكات القائمة، قضاة الاتصال/الملحقون القانونيون، سلطة مركزية محلية (للمشورة)، إنتربول، يوروبول، الاتصالات المباشرة، الشبكات القضائية...</a:t>
            </a: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ستخدام المادة </a:t>
            </a:r>
            <a:r>
              <a:rPr b="1" lang="ar-SY" sz="3200" spc="-1" strike="noStrike">
                <a:solidFill>
                  <a:srgbClr val="000000"/>
                </a:solidFill>
                <a:latin typeface="Sakkal Majalla"/>
                <a:ea typeface="Sakkal Majalla"/>
              </a:rPr>
              <a:t>29</a:t>
            </a:r>
            <a:r>
              <a:rPr b="1" lang="ar-SY" sz="3200" spc="-1" strike="noStrike">
                <a:solidFill>
                  <a:srgbClr val="000000"/>
                </a:solidFill>
                <a:latin typeface="Sakkal Majalla"/>
                <a:ea typeface="Sakkal Majalla"/>
              </a:rPr>
              <a:t> من اتفاقية بودابست </a:t>
            </a:r>
            <a:r>
              <a:rPr b="0" lang="ar-SY" sz="3200" spc="-1" strike="noStrike">
                <a:solidFill>
                  <a:srgbClr val="000000"/>
                </a:solidFill>
                <a:latin typeface="Sakkal Majalla"/>
                <a:ea typeface="Sakkal Majalla"/>
              </a:rPr>
              <a:t>(التعجيل بحفظ بيانات الكمبيوتر المخزنة)</a:t>
            </a:r>
            <a:endParaRPr b="0" lang="en-US" sz="32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CFB2D11-B133-44B2-9C5E-5EFD94DC1E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ذكير:</a:t>
            </a:r>
            <a:endParaRPr b="0" lang="en-US" sz="5400" spc="-1" strike="noStrike">
              <a:solidFill>
                <a:srgbClr val="000000"/>
              </a:solidFill>
              <a:latin typeface="Calibri"/>
            </a:endParaRPr>
          </a:p>
        </p:txBody>
      </p:sp>
      <p:graphicFrame>
        <p:nvGraphicFramePr>
          <p:cNvPr id="92" name=""/>
          <p:cNvGraphicFramePr/>
          <p:nvPr/>
        </p:nvGraphicFramePr>
        <p:xfrm>
          <a:off x="190440" y="981000"/>
          <a:ext cx="8763120" cy="5550120"/>
        </p:xfrm>
        <a:graphic>
          <a:graphicData uri="http://schemas.openxmlformats.org/drawingml/2006/table">
            <a:tbl>
              <a:tblPr/>
              <a:tblGrid>
                <a:gridCol w="4381560"/>
                <a:gridCol w="4381560"/>
              </a:tblGrid>
              <a:tr h="366120">
                <a:tc>
                  <a:txBody>
                    <a:bodyPr lIns="90000" rIns="90000" anchor="t">
                      <a:no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ffffff"/>
                          </a:solidFill>
                          <a:latin typeface="Calibri"/>
                        </a:rPr>
                        <a:t>المادة </a:t>
                      </a:r>
                      <a:r>
                        <a:rPr b="1" lang="ar-SY" sz="1800" spc="-1" strike="noStrike">
                          <a:solidFill>
                            <a:srgbClr val="ffffff"/>
                          </a:solidFill>
                          <a:latin typeface="Calibri"/>
                        </a:rPr>
                        <a:t>35</a:t>
                      </a:r>
                      <a:r>
                        <a:rPr b="1" lang="ar-SY" sz="1800" spc="-1" strike="noStrike">
                          <a:solidFill>
                            <a:srgbClr val="ffffff"/>
                          </a:solidFill>
                          <a:latin typeface="Calibri"/>
                        </a:rPr>
                        <a:t> من اتفاقية بوداب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ffffff"/>
                          </a:solidFill>
                          <a:latin typeface="Calibri"/>
                        </a:rPr>
                        <a:t>المادة </a:t>
                      </a:r>
                      <a:r>
                        <a:rPr b="1" lang="ar-SY" sz="1800" spc="-1" strike="noStrike">
                          <a:solidFill>
                            <a:srgbClr val="ffffff"/>
                          </a:solidFill>
                          <a:latin typeface="Calibri"/>
                        </a:rPr>
                        <a:t>29</a:t>
                      </a:r>
                      <a:r>
                        <a:rPr b="1" lang="ar-SY" sz="1800" spc="-1" strike="noStrike">
                          <a:solidFill>
                            <a:srgbClr val="ffffff"/>
                          </a:solidFill>
                          <a:latin typeface="Calibri"/>
                        </a:rPr>
                        <a:t> من اتفاقية بوداب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2600">
                <a:tc>
                  <a:txBody>
                    <a:bodyPr lIns="90000" rIns="90000" anchor="t">
                      <a:no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35</a:t>
                      </a:r>
                      <a:r>
                        <a:rPr b="1" lang="ar-EG" sz="1600" spc="-1" strike="noStrike">
                          <a:solidFill>
                            <a:srgbClr val="000000"/>
                          </a:solidFill>
                          <a:latin typeface="Sakkal Majalla"/>
                          <a:ea typeface="Sakkal Majalla"/>
                        </a:rPr>
                        <a:t> – شبكة على مدار الساعة و</a:t>
                      </a:r>
                      <a:r>
                        <a:rPr b="1" lang="ar-EG" sz="1600" spc="-1" strike="noStrike">
                          <a:solidFill>
                            <a:srgbClr val="000000"/>
                          </a:solidFill>
                          <a:latin typeface="Sakkal Majalla"/>
                          <a:ea typeface="Sakkal Majalla"/>
                        </a:rPr>
                        <a:t>7</a:t>
                      </a:r>
                      <a:r>
                        <a:rPr b="1" lang="ar-EG" sz="1600" spc="-1" strike="noStrike">
                          <a:solidFill>
                            <a:srgbClr val="000000"/>
                          </a:solidFill>
                          <a:latin typeface="Sakkal Majalla"/>
                          <a:ea typeface="Sakkal Majalla"/>
                        </a:rPr>
                        <a:t> أيام في الأسبوع</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1</a:t>
                      </a:r>
                      <a:r>
                        <a:rPr b="0" lang="ar-SY" sz="1600" spc="-1" strike="noStrike">
                          <a:solidFill>
                            <a:srgbClr val="000000"/>
                          </a:solidFill>
                          <a:latin typeface="Sakkal Majalla"/>
                          <a:ea typeface="Sakkal Majalla"/>
                        </a:rPr>
                        <a:t>. </a:t>
                      </a:r>
                      <a:r>
                        <a:rPr b="1" lang="ar-EG" sz="1600" spc="-1" strike="noStrike" u="sng">
                          <a:solidFill>
                            <a:srgbClr val="000000"/>
                          </a:solidFill>
                          <a:uFillTx/>
                          <a:latin typeface="Sakkal Majalla"/>
                          <a:cs typeface="Sakkal Majalla"/>
                        </a:rPr>
                        <a:t>تعين</a:t>
                      </a:r>
                      <a:r>
                        <a:rPr b="1" lang="ar-EG" sz="1600" spc="-1" strike="noStrike">
                          <a:solidFill>
                            <a:srgbClr val="000000"/>
                          </a:solidFill>
                          <a:latin typeface="Sakkal Majalla"/>
                          <a:ea typeface="Sakkal Majalla"/>
                        </a:rPr>
                        <a:t> كل دولة طرف نقطة اتصال متاحة على مدار الساعة وسبعة أيام في الأسبوع</a:t>
                      </a:r>
                      <a:r>
                        <a:rPr b="0" lang="ar-EG" sz="1600" spc="-1" strike="noStrike">
                          <a:solidFill>
                            <a:srgbClr val="000000"/>
                          </a:solidFill>
                          <a:latin typeface="Sakkal Majalla"/>
                          <a:ea typeface="Sakkal Majalla"/>
                        </a:rPr>
                        <a:t> بغية ضمان </a:t>
                      </a:r>
                      <a:r>
                        <a:rPr b="1" lang="ar-EG" sz="1600" spc="-1" strike="noStrike" u="sng">
                          <a:solidFill>
                            <a:srgbClr val="000000"/>
                          </a:solidFill>
                          <a:uFillTx/>
                          <a:latin typeface="Sakkal Majalla"/>
                          <a:cs typeface="Sakkal Majalla"/>
                        </a:rPr>
                        <a:t>توفير المساعدة الفورية </a:t>
                      </a:r>
                      <a:r>
                        <a:rPr b="0" lang="ar-EG" sz="1600" spc="-1" strike="noStrike">
                          <a:solidFill>
                            <a:srgbClr val="000000"/>
                          </a:solidFill>
                          <a:latin typeface="Sakkal Majalla"/>
                          <a:cs typeface="Sakkal Majalla"/>
                        </a:rPr>
                        <a:t>لأغراض التحقيقات أو الإجراءات الخاصة بالجرائم الجنائية ذات الصلة بنظم وبيانات الكومبيوتر أو من أجل جمع الأدلة الخاصة بجريمة جنائية في شكل إلكتروني. وتشمل هذه المساعدة تسهيل، أو إذا كان قانونها الوطني وممارستها يسمح بذلك، تنفيذ التدابير التالية بشكل مباشر:</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أ. </a:t>
                      </a:r>
                      <a:r>
                        <a:rPr b="0" lang="ar-EG" sz="1600" spc="-1" strike="noStrike">
                          <a:solidFill>
                            <a:srgbClr val="000000"/>
                          </a:solidFill>
                          <a:latin typeface="Sakkal Majalla"/>
                          <a:cs typeface="Sakkal Majalla"/>
                        </a:rPr>
                        <a:t>توفير المشورة الفنية؛</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ب. </a:t>
                      </a:r>
                      <a:r>
                        <a:rPr b="1" lang="ar-EG" sz="1600" spc="-1" strike="noStrike" u="sng">
                          <a:solidFill>
                            <a:srgbClr val="000000"/>
                          </a:solidFill>
                          <a:uFillTx/>
                          <a:latin typeface="Sakkal Majalla"/>
                          <a:cs typeface="Sakkal Majalla"/>
                        </a:rPr>
                        <a:t>حفظ البيانات طبقاً للمادتين </a:t>
                      </a:r>
                      <a:r>
                        <a:rPr b="1" lang="ar-EG" sz="1600" spc="-1" strike="noStrike" u="sng">
                          <a:solidFill>
                            <a:srgbClr val="000000"/>
                          </a:solidFill>
                          <a:uFillTx/>
                          <a:latin typeface="Sakkal Majalla"/>
                          <a:ea typeface="Sakkal Majalla"/>
                        </a:rPr>
                        <a:t>29</a:t>
                      </a:r>
                      <a:r>
                        <a:rPr b="1" lang="ar-EG" sz="1600" spc="-1" strike="noStrike" u="sng">
                          <a:solidFill>
                            <a:srgbClr val="000000"/>
                          </a:solidFill>
                          <a:uFillTx/>
                          <a:latin typeface="Sakkal Majalla"/>
                          <a:ea typeface="Sakkal Majalla"/>
                        </a:rPr>
                        <a:t> و</a:t>
                      </a:r>
                      <a:r>
                        <a:rPr b="1" lang="ar-EG" sz="1600" spc="-1" strike="noStrike" u="sng">
                          <a:solidFill>
                            <a:srgbClr val="000000"/>
                          </a:solidFill>
                          <a:uFillTx/>
                          <a:latin typeface="Sakkal Majalla"/>
                          <a:ea typeface="Sakkal Majalla"/>
                        </a:rPr>
                        <a:t>30</a:t>
                      </a:r>
                      <a:r>
                        <a:rPr b="0" lang="ar-EG" sz="1600" spc="-1" strike="noStrike">
                          <a:solidFill>
                            <a:srgbClr val="000000"/>
                          </a:solidFill>
                          <a:latin typeface="Sakkal Majalla"/>
                          <a:cs typeface="Sakkal Majalla"/>
                        </a:rPr>
                        <a:t>؛</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ج. </a:t>
                      </a:r>
                      <a:r>
                        <a:rPr b="0" lang="en-US"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جمع الأدلة وتوفير المعلومات القانونية وتحديد موقع المشتبه بهم.</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2</a:t>
                      </a:r>
                      <a:r>
                        <a:rPr b="0" lang="ar-SY" sz="1600" spc="-1" strike="noStrike">
                          <a:solidFill>
                            <a:srgbClr val="000000"/>
                          </a:solidFill>
                          <a:latin typeface="Sakkal Majalla"/>
                          <a:ea typeface="Sakkal Majalla"/>
                        </a:rPr>
                        <a:t>.(أ)  </a:t>
                      </a:r>
                      <a:r>
                        <a:rPr b="0" lang="ar-EG" sz="1600" spc="-1" strike="noStrike">
                          <a:solidFill>
                            <a:srgbClr val="000000"/>
                          </a:solidFill>
                          <a:latin typeface="Sakkal Majalla"/>
                          <a:cs typeface="Sakkal Majalla"/>
                        </a:rPr>
                        <a:t>يجب أن تتوفر نقطة الاتصال للدولة الطرف على القدرة على إجراء اتصالات مع مثيلتها في دولة طرف أخرى على وجه السرعة.</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Sakkal Majalla"/>
                          <a:ea typeface="Sakkal Majalla"/>
                        </a:rPr>
                        <a:t> </a:t>
                      </a:r>
                      <a:r>
                        <a:rPr b="1" lang="ar-SY" sz="1600" spc="-1" strike="noStrike">
                          <a:solidFill>
                            <a:srgbClr val="000000"/>
                          </a:solidFill>
                          <a:latin typeface="Sakkal Majalla"/>
                          <a:ea typeface="Sakkal Majalla"/>
                        </a:rPr>
                        <a:t>2</a:t>
                      </a:r>
                      <a:r>
                        <a:rPr b="1" lang="ar-SY" sz="1600" spc="-1" strike="noStrike">
                          <a:solidFill>
                            <a:srgbClr val="000000"/>
                          </a:solidFill>
                          <a:latin typeface="Sakkal Majalla"/>
                          <a:ea typeface="Sakkal Majalla"/>
                        </a:rPr>
                        <a:t>.</a:t>
                      </a:r>
                      <a:r>
                        <a:rPr b="1" lang="ar-EG" sz="1600" spc="-1" strike="noStrike">
                          <a:solidFill>
                            <a:srgbClr val="000000"/>
                          </a:solidFill>
                          <a:latin typeface="Sakkal Majalla"/>
                          <a:ea typeface="Sakkal Majalla"/>
                        </a:rPr>
                        <a:t>(ب) إذا كانت نقطة الاتصال التي تعينها دولة طرف ليست جزءاً من السلطة أو السلطات المسؤولة عن المساعدة المتبادلة الدولية أو عن تسليم المجرمين، وجب على نقطة الاتصال أن تضمن أنها قادرة على التنسيق مع تلك السلطة أو السلطات على وجه السرعة.</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3</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تضمن كل دولة طرف توفير طاقم حاصل على التدريب والمعدات الضروريين من أجل تسهيل تشغيل الشبكة.</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9</a:t>
                      </a:r>
                      <a:r>
                        <a:rPr b="1" lang="ar-EG" sz="1600" spc="-1" strike="noStrike">
                          <a:solidFill>
                            <a:srgbClr val="000000"/>
                          </a:solidFill>
                          <a:latin typeface="Sakkal Majalla"/>
                          <a:ea typeface="Sakkal Majalla"/>
                        </a:rPr>
                        <a:t> – التعجيل </a:t>
                      </a:r>
                      <a:r>
                        <a:rPr b="1" lang="ar-SY" sz="1600" spc="-1" strike="noStrike">
                          <a:solidFill>
                            <a:srgbClr val="000000"/>
                          </a:solidFill>
                          <a:latin typeface="Sakkal Majalla"/>
                          <a:cs typeface="Sakkal Majalla"/>
                        </a:rPr>
                        <a:t>ب</a:t>
                      </a:r>
                      <a:r>
                        <a:rPr b="1" lang="ar-EG" sz="1600" spc="-1" strike="noStrike">
                          <a:solidFill>
                            <a:srgbClr val="000000"/>
                          </a:solidFill>
                          <a:latin typeface="Sakkal Majalla"/>
                          <a:cs typeface="Sakkal Majalla"/>
                        </a:rPr>
                        <a:t>حفظ بيانات الكومبيوتر المخزنة</a:t>
                      </a: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1</a:t>
                      </a:r>
                      <a:r>
                        <a:rPr b="0" lang="ar-SY" sz="1600" spc="-1" strike="noStrike">
                          <a:solidFill>
                            <a:srgbClr val="000000"/>
                          </a:solidFill>
                          <a:latin typeface="Sakkal Majalla"/>
                          <a:ea typeface="Sakkal Majalla"/>
                        </a:rPr>
                        <a:t>. </a:t>
                      </a:r>
                      <a:r>
                        <a:rPr b="1" lang="ar-EG" sz="1600" spc="-1" strike="noStrike">
                          <a:solidFill>
                            <a:srgbClr val="000000"/>
                          </a:solidFill>
                          <a:latin typeface="Sakkal Majalla"/>
                          <a:cs typeface="Sakkal Majalla"/>
                        </a:rPr>
                        <a:t>يجوز لأي دولة طرف أن تطالب دولة طرفا أخرى أن تأمر أو تحصل بطريقة أخرى على التعجيل في حفظ بيانات مُخزنة بواسطة نظام كومبيوتر</a:t>
                      </a:r>
                      <a:r>
                        <a:rPr b="0" lang="ar-EG" sz="1600" spc="-1" strike="noStrike">
                          <a:solidFill>
                            <a:srgbClr val="000000"/>
                          </a:solidFill>
                          <a:latin typeface="Sakkal Majalla"/>
                          <a:cs typeface="Sakkal Majalla"/>
                        </a:rPr>
                        <a:t>، يوجد على أراضي الدولة الطرف الأخرى، </a:t>
                      </a:r>
                      <a:r>
                        <a:rPr b="0" lang="ar-EG" sz="1600" spc="-1" strike="noStrike" u="sng">
                          <a:solidFill>
                            <a:srgbClr val="000000"/>
                          </a:solidFill>
                          <a:uFillTx/>
                          <a:latin typeface="Sakkal Majalla"/>
                          <a:cs typeface="Sakkal Majalla"/>
                        </a:rPr>
                        <a:t>و</a:t>
                      </a:r>
                      <a:r>
                        <a:rPr b="0" lang="ar-EG" sz="1600" spc="-1" strike="noStrike">
                          <a:solidFill>
                            <a:srgbClr val="000000"/>
                          </a:solidFill>
                          <a:latin typeface="Sakkal Majalla"/>
                          <a:cs typeface="Sakkal Majalla"/>
                        </a:rPr>
                        <a:t>التي </a:t>
                      </a:r>
                      <a:r>
                        <a:rPr b="1" lang="ar-EG" sz="1600" spc="-1" strike="noStrike">
                          <a:solidFill>
                            <a:srgbClr val="000000"/>
                          </a:solidFill>
                          <a:latin typeface="Sakkal Majalla"/>
                          <a:cs typeface="Sakkal Majalla"/>
                        </a:rPr>
                        <a:t>تنوي أن تقدم بشأنها طلبا بالمساعدة المتبادلة </a:t>
                      </a:r>
                      <a:r>
                        <a:rPr b="0" lang="ar-EG" sz="1600" spc="-1" strike="noStrike">
                          <a:solidFill>
                            <a:srgbClr val="000000"/>
                          </a:solidFill>
                          <a:latin typeface="Sakkal Majalla"/>
                          <a:cs typeface="Sakkal Majalla"/>
                        </a:rPr>
                        <a:t>من أجل البحث عن بيانات، النفاذ إليها، مصادرتها، تأمينها أو كشفها</a:t>
                      </a:r>
                      <a:r>
                        <a:rPr b="0" lang="en-US" sz="1600" spc="-1" strike="noStrike">
                          <a:solidFill>
                            <a:srgbClr val="000000"/>
                          </a:solidFill>
                          <a:latin typeface="Sakkal Majalla"/>
                          <a:ea typeface="Sakkal Majalla"/>
                        </a:rPr>
                        <a:t>(…) </a:t>
                      </a: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3</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عند استلام الطلب من الطرف الآخر، يقوم الطرف المطلوب منه المساعدة باتخاذ كافة الإجراءات الملائمة وذلك لتعجيل حفظ البيانات المحددة وفقاً للقانون الوطني. ولأغراض الاستجابة للطلب، لا يجوز تقيي</a:t>
                      </a:r>
                      <a:r>
                        <a:rPr b="0" lang="ar-SY" sz="1600" spc="-1" strike="noStrike">
                          <a:solidFill>
                            <a:srgbClr val="000000"/>
                          </a:solidFill>
                          <a:latin typeface="Sakkal Majalla"/>
                          <a:cs typeface="Sakkal Majalla"/>
                        </a:rPr>
                        <a:t>د توفير هذا الحفظ </a:t>
                      </a:r>
                      <a:r>
                        <a:rPr b="0" lang="ar-EG" sz="1600" spc="-1" strike="noStrike">
                          <a:solidFill>
                            <a:srgbClr val="000000"/>
                          </a:solidFill>
                          <a:latin typeface="Sakkal Majalla"/>
                          <a:cs typeface="Sakkal Majalla"/>
                        </a:rPr>
                        <a:t>بشرط ازدواجية التجريم.</a:t>
                      </a:r>
                      <a:r>
                        <a:rPr b="0" lang="en-US" sz="1600" spc="-1" strike="noStrike">
                          <a:solidFill>
                            <a:srgbClr val="000000"/>
                          </a:solidFill>
                          <a:latin typeface="Sakkal Majalla"/>
                          <a:ea typeface="Sakkal Majalla"/>
                        </a:rPr>
                        <a:t>(…)</a:t>
                      </a: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7</a:t>
                      </a:r>
                      <a:r>
                        <a:rPr b="0" lang="ar-SY" sz="1600" spc="-1" strike="noStrike">
                          <a:solidFill>
                            <a:srgbClr val="000000"/>
                          </a:solidFill>
                          <a:latin typeface="Sakkal Majalla"/>
                          <a:ea typeface="Sakkal Majalla"/>
                        </a:rPr>
                        <a:t>. </a:t>
                      </a:r>
                      <a:r>
                        <a:rPr b="1" lang="ar-EG" sz="1600" spc="-1" strike="noStrike">
                          <a:solidFill>
                            <a:srgbClr val="000000"/>
                          </a:solidFill>
                          <a:latin typeface="Sakkal Majalla"/>
                          <a:cs typeface="Sakkal Majalla"/>
                        </a:rPr>
                        <a:t>يكون أي حفظ يتم تفعيله استجابة للطلب المشار إليه في الفقرة </a:t>
                      </a:r>
                      <a:r>
                        <a:rPr b="1" lang="ar-EG" sz="1600" spc="-1" strike="noStrike">
                          <a:solidFill>
                            <a:srgbClr val="000000"/>
                          </a:solidFill>
                          <a:latin typeface="Sakkal Majalla"/>
                          <a:ea typeface="Sakkal Majalla"/>
                        </a:rPr>
                        <a:t>1</a:t>
                      </a:r>
                      <a:r>
                        <a:rPr b="1" lang="ar-EG" sz="1600" spc="-1" strike="noStrike">
                          <a:solidFill>
                            <a:srgbClr val="000000"/>
                          </a:solidFill>
                          <a:latin typeface="Sakkal Majalla"/>
                          <a:ea typeface="Sakkal Majalla"/>
                        </a:rPr>
                        <a:t> لفترة </a:t>
                      </a:r>
                      <a:r>
                        <a:rPr b="1" lang="ar-EG" sz="1600" spc="-1" strike="noStrike" u="sng">
                          <a:solidFill>
                            <a:srgbClr val="000000"/>
                          </a:solidFill>
                          <a:uFillTx/>
                          <a:latin typeface="Sakkal Majalla"/>
                          <a:cs typeface="Sakkal Majalla"/>
                        </a:rPr>
                        <a:t>لا تقل عن ستين يوماً </a:t>
                      </a:r>
                      <a:r>
                        <a:rPr b="1" lang="ar-EG" sz="1600" spc="-1" strike="noStrike">
                          <a:solidFill>
                            <a:srgbClr val="000000"/>
                          </a:solidFill>
                          <a:latin typeface="Sakkal Majalla"/>
                          <a:cs typeface="Sakkal Majalla"/>
                        </a:rPr>
                        <a:t>بغية تمكين الدولة الطرف مقدمة الطلب من تقديم طلب</a:t>
                      </a:r>
                      <a:r>
                        <a:rPr b="0" lang="ar-EG" sz="1600" spc="-1" strike="noStrike">
                          <a:solidFill>
                            <a:srgbClr val="000000"/>
                          </a:solidFill>
                          <a:latin typeface="Sakkal Majalla"/>
                          <a:ea typeface="Sakkal Majalla"/>
                        </a:rPr>
                        <a:t> للبحث في بيانات، النفاذ إليها، مصادرتها، تأمينها أو الكشف عنها. بعد تلقي طلب من هذا القبيل، يجب مواصلة حفظ البيانات في انتظار صدور قرار بشأن ذلك الطلب.</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4B678EE-0AB5-4152-8443-CF037AF1D8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قبل إرسال طلب المساعدة القانونية المتبادلة لجمع بيانات إلكترونية...</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الدولة مقدمة الطلب طرفا في اتفاقية بودابست، </a:t>
            </a:r>
            <a:r>
              <a:rPr b="1" lang="ar-SY" sz="3200" spc="-1" strike="noStrike" u="sng">
                <a:solidFill>
                  <a:srgbClr val="000000"/>
                </a:solidFill>
                <a:uFillTx/>
                <a:latin typeface="Sakkal Majalla"/>
                <a:cs typeface="Sakkal Majalla"/>
              </a:rPr>
              <a:t>استخدموا المادة </a:t>
            </a:r>
            <a:r>
              <a:rPr b="1" lang="ar-SY" sz="3200" spc="-1" strike="noStrike" u="sng">
                <a:solidFill>
                  <a:srgbClr val="000000"/>
                </a:solidFill>
                <a:uFillTx/>
                <a:latin typeface="Sakkal Majalla"/>
                <a:ea typeface="Sakkal Majalla"/>
              </a:rPr>
              <a:t>29</a:t>
            </a:r>
            <a:r>
              <a:rPr b="0" lang="ar-SY" sz="3200" spc="-1" strike="noStrike">
                <a:solidFill>
                  <a:srgbClr val="000000"/>
                </a:solidFill>
                <a:latin typeface="Sakkal Majalla"/>
                <a:ea typeface="Sakkal Majalla"/>
              </a:rPr>
              <a:t> والتنسيق مع السلطات الوطنية المختصة للطلب بالحفظ المعجل للبيانات</a:t>
            </a:r>
            <a:endParaRPr b="0" lang="en-US" sz="3200" spc="-1" strike="noStrike">
              <a:solidFill>
                <a:srgbClr val="000000"/>
              </a:solidFill>
              <a:latin typeface="Calibri"/>
            </a:endParaRPr>
          </a:p>
          <a:p>
            <a:pPr marL="343080" indent="-3430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57200" algn="just"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Wingdings"/>
                <a:ea typeface="Wingdings"/>
              </a:rPr>
              <a:t></a:t>
            </a:r>
            <a:r>
              <a:rPr b="0" lang="ar-SY" sz="2400" spc="-1" strike="noStrike">
                <a:solidFill>
                  <a:srgbClr val="000000"/>
                </a:solidFill>
                <a:latin typeface="Sakkal Majalla"/>
                <a:ea typeface="Sakkal Majalla"/>
              </a:rPr>
              <a:t> يكون هذا التدبير مفيدا فقط إذا تم في وقت مبكر خلال التحقيقات، خاصة وأن الدول لا تقوم جميعها بإلزام مزودي خدمات الإنترنت بحفظ البيانات خلال فترة محددة لأغراض التحقيق.</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D69737-6593-4A82-B25E-D531BF80B9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عمليا...</a:t>
            </a:r>
            <a:endParaRPr b="0" lang="en-US" sz="5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2000"/>
          </a:bodyPr>
          <a:p>
            <a:pPr marL="315360" indent="-31536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قوم نقطة الاتصال المعينة بالاتصال بنظيرتها في البلد المستهدف على أساس </a:t>
            </a:r>
            <a:r>
              <a:rPr b="0" lang="ar-SY" sz="2400" spc="-1" strike="noStrike">
                <a:solidFill>
                  <a:srgbClr val="000000"/>
                </a:solidFill>
                <a:latin typeface="Sakkal Majalla"/>
                <a:ea typeface="Sakkal Majalla"/>
              </a:rPr>
              <a:t>7/24</a:t>
            </a:r>
            <a:r>
              <a:rPr b="0" lang="ar-SY" sz="2400" spc="-1" strike="noStrike">
                <a:solidFill>
                  <a:srgbClr val="000000"/>
                </a:solidFill>
                <a:latin typeface="Sakkal Majalla"/>
                <a:cs typeface="Sakkal Majalla"/>
              </a:rPr>
              <a:t>؛</a:t>
            </a:r>
            <a:endParaRPr b="0" lang="en-US" sz="2400" spc="-1" strike="noStrike">
              <a:solidFill>
                <a:srgbClr val="000000"/>
              </a:solidFill>
              <a:latin typeface="Calibri"/>
            </a:endParaRPr>
          </a:p>
          <a:p>
            <a:pPr marL="315360" indent="-31536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نقاط الاتصال المعينة: </a:t>
            </a:r>
            <a:r>
              <a:rPr b="0" lang="fr-FR" sz="2000" spc="-1" strike="noStrike" u="sng">
                <a:solidFill>
                  <a:srgbClr val="0000ff"/>
                </a:solidFill>
                <a:uFillTx/>
                <a:latin typeface="Sakkal Majalla"/>
                <a:ea typeface="Sakkal Majalla"/>
                <a:hlinkClick r:id="rId1"/>
              </a:rPr>
              <a:t>http://www.coe.int/en/web/conventions/full-list/-/conventions/treaty/185/declarations?p_auth=r6eUYhF4</a:t>
            </a:r>
            <a:r>
              <a:rPr b="0" lang="fr-FR" sz="2000" spc="-1" strike="noStrike">
                <a:solidFill>
                  <a:srgbClr val="000000"/>
                </a:solidFill>
                <a:latin typeface="Sakkal Majalla"/>
                <a:ea typeface="Sakkal Majalla"/>
              </a:rPr>
              <a:t> </a:t>
            </a:r>
            <a:r>
              <a:rPr b="0" lang="ar-SY" sz="2000" spc="-1" strike="noStrike">
                <a:solidFill>
                  <a:srgbClr val="000000"/>
                </a:solidFill>
                <a:latin typeface="Sakkal Majalla"/>
                <a:ea typeface="Sakkal Majalla"/>
              </a:rPr>
              <a:t>)</a:t>
            </a:r>
            <a:r>
              <a:rPr b="0" lang="fr-FR" sz="2000" spc="-1" strike="noStrike">
                <a:solidFill>
                  <a:srgbClr val="000000"/>
                </a:solidFill>
                <a:latin typeface="Sakkal Majalla"/>
                <a:ea typeface="Sakkal Majalla"/>
              </a:rPr>
              <a:t>	</a:t>
            </a:r>
            <a:endParaRPr b="0" lang="en-US" sz="2000" spc="-1" strike="noStrike">
              <a:solidFill>
                <a:srgbClr val="000000"/>
              </a:solidFill>
              <a:latin typeface="Calibri"/>
            </a:endParaRPr>
          </a:p>
          <a:p>
            <a:pPr marL="315360" indent="-31536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5360" indent="-31536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طلب منها </a:t>
            </a:r>
            <a:r>
              <a:rPr b="1" lang="ar-SY" sz="2400" spc="-1" strike="noStrike" u="sng">
                <a:solidFill>
                  <a:srgbClr val="000000"/>
                </a:solidFill>
                <a:uFillTx/>
                <a:latin typeface="Sakkal Majalla"/>
                <a:cs typeface="Sakkal Majalla"/>
              </a:rPr>
              <a:t>حفظ</a:t>
            </a:r>
            <a:r>
              <a:rPr b="0" lang="ar-SY" sz="2400" spc="-1" strike="noStrike">
                <a:solidFill>
                  <a:srgbClr val="000000"/>
                </a:solidFill>
                <a:latin typeface="Sakkal Majalla"/>
                <a:ea typeface="Sakkal Majalla"/>
              </a:rPr>
              <a:t> البيانات المطلوبة من أجل التحقيق لمدة لا تقل عن </a:t>
            </a:r>
            <a:r>
              <a:rPr b="0" lang="ar-SY" sz="2400" spc="-1" strike="noStrike">
                <a:solidFill>
                  <a:srgbClr val="000000"/>
                </a:solidFill>
                <a:latin typeface="Sakkal Majalla"/>
                <a:ea typeface="Sakkal Majalla"/>
              </a:rPr>
              <a:t>60</a:t>
            </a:r>
            <a:r>
              <a:rPr b="0" lang="ar-SY" sz="2400" spc="-1" strike="noStrike">
                <a:solidFill>
                  <a:srgbClr val="000000"/>
                </a:solidFill>
                <a:latin typeface="Sakkal Majalla"/>
                <a:ea typeface="Sakkal Majalla"/>
              </a:rPr>
              <a:t> يوما (أحيانا أكثر: مثلا، في الولايات المتحدة الأمريكية </a:t>
            </a:r>
            <a:r>
              <a:rPr b="0" lang="ar-SY" sz="2400" spc="-1" strike="noStrike">
                <a:solidFill>
                  <a:srgbClr val="000000"/>
                </a:solidFill>
                <a:latin typeface="Sakkal Majalla"/>
                <a:ea typeface="Sakkal Majalla"/>
              </a:rPr>
              <a:t>90</a:t>
            </a:r>
            <a:r>
              <a:rPr b="0" lang="ar-SY" sz="2400" spc="-1" strike="noStrike">
                <a:solidFill>
                  <a:srgbClr val="000000"/>
                </a:solidFill>
                <a:latin typeface="Sakkal Majalla"/>
                <a:ea typeface="Sakkal Majalla"/>
              </a:rPr>
              <a:t> يوما، قابلة للتجديد مرة واحدة)</a:t>
            </a:r>
            <a:endParaRPr b="0" lang="en-US" sz="2400" spc="-1" strike="noStrike">
              <a:solidFill>
                <a:srgbClr val="000000"/>
              </a:solidFill>
              <a:latin typeface="Calibri"/>
            </a:endParaRPr>
          </a:p>
          <a:p>
            <a:pPr marL="315360" indent="-315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خلال هذا الوقت، يتم إعداد وإرسال طلب المساعدة القانونية المتبادلة </a:t>
            </a:r>
            <a:r>
              <a:rPr b="1" lang="ar-SY" sz="2400" spc="-1" strike="noStrike" u="sng">
                <a:solidFill>
                  <a:srgbClr val="000000"/>
                </a:solidFill>
                <a:uFillTx/>
                <a:latin typeface="Sakkal Majalla"/>
                <a:cs typeface="Sakkal Majalla"/>
              </a:rPr>
              <a:t>للحصول</a:t>
            </a:r>
            <a:r>
              <a:rPr b="0" lang="ar-SY" sz="2400" spc="-1" strike="noStrike">
                <a:solidFill>
                  <a:srgbClr val="000000"/>
                </a:solidFill>
                <a:latin typeface="Sakkal Majalla"/>
                <a:ea typeface="Sakkal Majalla"/>
              </a:rPr>
              <a:t> على البيانات:</a:t>
            </a:r>
            <a:endParaRPr b="0" lang="en-US" sz="2400" spc="-1" strike="noStrike">
              <a:solidFill>
                <a:srgbClr val="000000"/>
              </a:solidFill>
              <a:latin typeface="Calibri"/>
            </a:endParaRPr>
          </a:p>
          <a:p>
            <a:pPr lvl="1" marL="683280" indent="-262800" algn="just" rtl="1">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000" spc="-1" strike="noStrike">
                <a:solidFill>
                  <a:srgbClr val="000000"/>
                </a:solidFill>
                <a:latin typeface="Sakkal Majalla"/>
                <a:cs typeface="Sakkal Majalla"/>
              </a:rPr>
              <a:t>إذا كانت البيانات موجودة، ينبغي حفظها؛</a:t>
            </a:r>
            <a:endParaRPr b="0" lang="en-US" sz="2000" spc="-1" strike="noStrike">
              <a:solidFill>
                <a:srgbClr val="000000"/>
              </a:solidFill>
              <a:latin typeface="Calibri"/>
            </a:endParaRPr>
          </a:p>
          <a:p>
            <a:pPr lvl="1" marL="683280" indent="-262800" algn="just" rtl="1">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000" spc="-1" strike="noStrike">
                <a:solidFill>
                  <a:srgbClr val="000000"/>
                </a:solidFill>
                <a:latin typeface="Sakkal Majalla"/>
                <a:cs typeface="Sakkal Majalla"/>
              </a:rPr>
              <a:t>إذا كانت هنالك حاجة إلى سبب محتمل، يمكن الإشارة إلى طلب التعجيل بالحفظ (التاريخ والرقم) في طلب المساعدة القانونية المتبادلة.</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17F1AAB-484C-4F98-AE11-F99A3277F6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عندما يبدو أنه ينبغي صياغة طلب المساعدة القانونية المتبادلة، ما هي المعلومات التي ينبغي التحقق منها؟</a:t>
            </a: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2000"/>
          </a:bodyPr>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الاتفاقية التي ينبغي تطبيقها والإشارة إليها في الطلب؟</a:t>
            </a:r>
            <a:endParaRPr b="0" lang="en-US" sz="3200" spc="-1" strike="noStrike">
              <a:solidFill>
                <a:srgbClr val="000000"/>
              </a:solidFill>
              <a:latin typeface="Calibri"/>
            </a:endParaRPr>
          </a:p>
          <a:p>
            <a:pPr marL="315360" indent="-31536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a:t>
            </a:r>
            <a:r>
              <a:rPr b="0" lang="ar-SY" sz="3200" spc="-1" strike="noStrike">
                <a:solidFill>
                  <a:srgbClr val="000000"/>
                </a:solidFill>
                <a:latin typeface="Wingdings"/>
                <a:ea typeface="Wingdings"/>
              </a:rPr>
              <a:t></a:t>
            </a:r>
            <a:r>
              <a:rPr b="0" lang="ar-SY" sz="3200" spc="-1" strike="noStrike">
                <a:solidFill>
                  <a:srgbClr val="000000"/>
                </a:solidFill>
                <a:latin typeface="Sakkal Majalla"/>
                <a:ea typeface="Sakkal Majalla"/>
              </a:rPr>
              <a:t> هل يمكنني الإشارة إلى اتفاقية بودابست؟</a:t>
            </a:r>
            <a:endParaRPr b="0" lang="en-US" sz="3200" spc="-1" strike="noStrike">
              <a:solidFill>
                <a:srgbClr val="000000"/>
              </a:solidFill>
              <a:latin typeface="Calibri"/>
            </a:endParaRPr>
          </a:p>
          <a:p>
            <a:pPr marL="315360" indent="-315360"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Sakkal Majalla"/>
                <a:ea typeface="Sakkal Majalla"/>
                <a:hlinkClick r:id="rId1"/>
              </a:rPr>
              <a:t>http</a:t>
            </a:r>
            <a:r>
              <a:rPr b="0" lang="en-US" sz="2000" spc="-1" strike="noStrike" u="sng">
                <a:solidFill>
                  <a:srgbClr val="0000ff"/>
                </a:solidFill>
                <a:uFillTx/>
                <a:latin typeface="Sakkal Majalla"/>
                <a:ea typeface="Sakkal Majalla"/>
                <a:hlinkClick r:id="rId2"/>
              </a:rPr>
              <a:t>://www.coe.int/en/web/conventions/full-list/-/conventions/treaty/185</a:t>
            </a:r>
            <a:endParaRPr b="0" lang="en-US" sz="2000" spc="-1" strike="noStrike">
              <a:solidFill>
                <a:srgbClr val="000000"/>
              </a:solidFill>
              <a:latin typeface="Calibri"/>
            </a:endParaRPr>
          </a:p>
          <a:p>
            <a:pPr marL="315360" indent="-3153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القنوات الخاصة بالإرسال؟</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شروط ومتطلبات الترجمة؟</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شروط ومتطلبات المضمون؟ (مثلا، السبب المحتمل في الولايات المتحدة الأمريكية)</a:t>
            </a:r>
            <a:endParaRPr b="0" lang="en-US" sz="32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019DFD-A7DA-43BE-A65E-2F7FA0F159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ا هي التداعيات الممكنة لعدم الامتثال لشروط ومتطلبات الإرسال والصياغة؟</a:t>
            </a:r>
            <a:endParaRPr b="0" lang="en-US" sz="44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8000"/>
          </a:bodyPr>
          <a:p>
            <a:pPr marL="335880" indent="-335880" algn="r"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لن يتم تنفيذ طلب المساعدة القانونية المتبادلة، أو</a:t>
            </a:r>
            <a:endParaRPr b="0" lang="en-US" sz="3200" spc="-1" strike="noStrike">
              <a:solidFill>
                <a:srgbClr val="000000"/>
              </a:solidFill>
              <a:latin typeface="Calibri"/>
            </a:endParaRPr>
          </a:p>
          <a:p>
            <a:pPr marL="335880" indent="-335880" algn="r"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سيتم تأخير التنفيذ والمطالبة بالمزيد من المعلومات</a:t>
            </a:r>
            <a:endParaRPr b="0" lang="en-US" sz="3200" spc="-1" strike="noStrike">
              <a:solidFill>
                <a:srgbClr val="000000"/>
              </a:solidFill>
              <a:latin typeface="Calibri"/>
            </a:endParaRPr>
          </a:p>
          <a:p>
            <a:pPr marL="335880" indent="-335880" algn="r"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يمكن أن تكون الأدلة غير مقبولة في المحكمة في حال انتهاك القواعد المحلية والدولية</a:t>
            </a:r>
            <a:endParaRPr b="0" lang="en-US" sz="3200" spc="-1" strike="noStrike">
              <a:solidFill>
                <a:srgbClr val="000000"/>
              </a:solidFill>
              <a:latin typeface="Calibri"/>
            </a:endParaRPr>
          </a:p>
          <a:p>
            <a:pPr marL="335880" indent="-3358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Sakkal Majalla"/>
                <a:ea typeface="Sakkal Majalla"/>
              </a:rPr>
              <a:t>	</a:t>
            </a:r>
            <a:r>
              <a:rPr b="0" lang="fr-FR"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لأدلة الإلكترونية متقلبة ويمكن أن تختفي في أي وقت! (فرصة </a:t>
            </a: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واحدة فقط)</a:t>
            </a:r>
            <a:endParaRPr b="0" lang="en-US" sz="3200" spc="-1" strike="noStrike">
              <a:solidFill>
                <a:srgbClr val="000000"/>
              </a:solidFill>
              <a:latin typeface="Calibri"/>
            </a:endParaRPr>
          </a:p>
        </p:txBody>
      </p:sp>
      <p:sp>
        <p:nvSpPr>
          <p:cNvPr id="105" name="Éclair 3"/>
          <p:cNvSpPr/>
          <p:nvPr/>
        </p:nvSpPr>
        <p:spPr>
          <a:xfrm>
            <a:off x="750960" y="49593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576CA-755E-4788-8A24-A95DA98478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3" name=""/>
          <p:cNvSpPr txBox="1"/>
          <p:nvPr/>
        </p:nvSpPr>
        <p:spPr>
          <a:xfrm>
            <a:off x="457200" y="1145880"/>
            <a:ext cx="8229600" cy="5210280"/>
          </a:xfrm>
          <a:prstGeom prst="rect">
            <a:avLst/>
          </a:prstGeom>
          <a:noFill/>
          <a:ln w="0">
            <a:noFill/>
          </a:ln>
        </p:spPr>
        <p:txBody>
          <a:bodyPr anchor="t">
            <a:normAutofit fontScale="99000"/>
          </a:bodyPr>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أول</a:t>
            </a:r>
            <a:endParaRPr b="0" lang="en-US" sz="2400" spc="-1" strike="noStrike">
              <a:solidFill>
                <a:srgbClr val="000000"/>
              </a:solidFill>
              <a:latin typeface="Calibri"/>
            </a:endParaRPr>
          </a:p>
          <a:p>
            <a:pPr marL="339480" indent="-339480" algn="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مبادئ العامة للمساعدة القانونية المتبادلة</a:t>
            </a:r>
            <a:endParaRPr b="0" lang="en-US" sz="2400" spc="-1" strike="noStrike">
              <a:solidFill>
                <a:srgbClr val="000000"/>
              </a:solidFill>
              <a:latin typeface="Calibri"/>
            </a:endParaRPr>
          </a:p>
          <a:p>
            <a:pPr marL="339480" indent="-339480" algn="r" rtl="1">
              <a:lnSpc>
                <a:spcPct val="10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ني</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إعداد طلب المساعدة القانونية المتبادلة</a:t>
            </a:r>
            <a:endParaRPr b="0" lang="en-US" sz="2400" spc="-1" strike="noStrike">
              <a:solidFill>
                <a:srgbClr val="000000"/>
              </a:solidFill>
              <a:latin typeface="Calibri"/>
            </a:endParaRPr>
          </a:p>
          <a:p>
            <a:pPr lvl="1" marL="452520" algn="r" rtl="1">
              <a:lnSpc>
                <a:spcPct val="10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لث</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صياغة طلب المساعدة القانونية المتبادلة</a:t>
            </a:r>
            <a:endParaRPr b="0" lang="en-US" sz="2400" spc="-1" strike="noStrike">
              <a:solidFill>
                <a:srgbClr val="000000"/>
              </a:solidFill>
              <a:latin typeface="Calibri"/>
            </a:endParaRPr>
          </a:p>
          <a:p>
            <a:pPr lvl="1" marL="452520" algn="r" rtl="1">
              <a:lnSpc>
                <a:spcPct val="10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رابع</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تلقي طلب المساعدة القانونية المتبادلة</a:t>
            </a:r>
            <a:endParaRPr b="0" lang="en-US" sz="2400" spc="-1" strike="noStrike">
              <a:solidFill>
                <a:srgbClr val="000000"/>
              </a:solidFill>
              <a:latin typeface="Calibri"/>
            </a:endParaRPr>
          </a:p>
          <a:p>
            <a:pPr lvl="1" marL="452520" algn="r" rtl="1">
              <a:lnSpc>
                <a:spcPct val="10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خامس</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الملخص</a:t>
            </a:r>
            <a:endParaRPr b="0" lang="en-US" sz="24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BDD1D57-2DC1-4E85-987E-AD0ABCB7FD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FC5BF-0858-4D10-9BE2-87F6E63356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9"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لث</a:t>
            </a:r>
            <a:br>
              <a:rPr sz="3200"/>
            </a:br>
            <a:r>
              <a:rPr b="1" lang="ar-SY" sz="3200" spc="-1" strike="noStrike">
                <a:solidFill>
                  <a:srgbClr val="000000"/>
                </a:solidFill>
                <a:latin typeface="Sakkal Majalla"/>
                <a:cs typeface="Sakkal Majalla"/>
              </a:rPr>
              <a:t>صياغة طلب المساعدة القانونية المتبادلة</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6CE791-4FE2-40D9-A084-F904F4C246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ا هو الشكل الذي ينبغي أن يكون عليه طلب المساعدة القانونية المتبادلة؟</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fontScale="89000"/>
          </a:bodyPr>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لكل دولة وسلطة طريقة مختلفة لتقديم طلب المساعدة القانونية المتبادلة</a:t>
            </a:r>
            <a:endParaRPr b="0" lang="en-US" sz="2800" spc="-1" strike="noStrike">
              <a:solidFill>
                <a:srgbClr val="000000"/>
              </a:solidFill>
              <a:latin typeface="Calibri"/>
            </a:endParaRPr>
          </a:p>
          <a:p>
            <a:pPr marL="305280" indent="-3052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لا يوجد أي نموذج ملزم دوليا، ما عدا في الولايات المتحدة الأمريكية اعتبارا من </a:t>
            </a:r>
            <a:r>
              <a:rPr b="0" lang="ar-SY" sz="2800" spc="-1" strike="noStrike">
                <a:solidFill>
                  <a:srgbClr val="000000"/>
                </a:solidFill>
                <a:latin typeface="Sakkal Majalla"/>
                <a:ea typeface="Sakkal Majalla"/>
              </a:rPr>
              <a:t>22</a:t>
            </a:r>
            <a:r>
              <a:rPr b="0" lang="ar-SY" sz="2800" spc="-1" strike="noStrike">
                <a:solidFill>
                  <a:srgbClr val="000000"/>
                </a:solidFill>
                <a:latin typeface="Sakkal Majalla"/>
                <a:ea typeface="Sakkal Majalla"/>
              </a:rPr>
              <a:t> مايو </a:t>
            </a:r>
            <a:r>
              <a:rPr b="0" lang="ar-SY" sz="2800" spc="-1" strike="noStrike">
                <a:solidFill>
                  <a:srgbClr val="000000"/>
                </a:solidFill>
                <a:latin typeface="Sakkal Majalla"/>
                <a:ea typeface="Sakkal Majalla"/>
              </a:rPr>
              <a:t>2017</a:t>
            </a:r>
            <a:endParaRPr b="0" lang="en-US" sz="2800" spc="-1" strike="noStrike">
              <a:solidFill>
                <a:srgbClr val="000000"/>
              </a:solidFill>
              <a:latin typeface="Calibri"/>
            </a:endParaRPr>
          </a:p>
          <a:p>
            <a:pPr marL="305280" indent="-3052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ثمة تجارب إقليمية ترمي إلى استخدام استمارات نموذجية في بعض البلدان أو لأنواع معينة من الطلبات (مثلا، الاستمارات النموذجية لمجلس أوروبا، والاستمارات النموذجية لمكتب الأمم المتحدة المعني بالجريمة والمخدرات، وطلبات البيانات الإلكترونية إلى الولايات المتحدة الأمريكية...)</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38498BE-8CE7-4DC3-BDBB-973DD48815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400" spc="-1" strike="noStrike">
                <a:solidFill>
                  <a:srgbClr val="000000"/>
                </a:solidFill>
                <a:latin typeface="Sakkal Majalla"/>
                <a:cs typeface="Sakkal Majalla"/>
              </a:rPr>
              <a:t>الأمثلة الإقليمية:</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اتحاد الأوروبي:</a:t>
            </a:r>
            <a:endParaRPr b="0" lang="en-US" sz="3200" spc="-1" strike="noStrike">
              <a:solidFill>
                <a:srgbClr val="000000"/>
              </a:solidFill>
              <a:latin typeface="Calibri"/>
            </a:endParaRPr>
          </a:p>
          <a:p>
            <a:pPr marL="343080" indent="-3430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عتبارا من </a:t>
            </a:r>
            <a:r>
              <a:rPr b="0" lang="ar-SY" sz="3200" spc="-1" strike="noStrike">
                <a:solidFill>
                  <a:srgbClr val="000000"/>
                </a:solidFill>
                <a:latin typeface="Sakkal Majalla"/>
                <a:ea typeface="Sakkal Majalla"/>
              </a:rPr>
              <a:t>22</a:t>
            </a:r>
            <a:r>
              <a:rPr b="0" lang="ar-SY" sz="3200" spc="-1" strike="noStrike">
                <a:solidFill>
                  <a:srgbClr val="000000"/>
                </a:solidFill>
                <a:latin typeface="Sakkal Majalla"/>
                <a:ea typeface="Sakkal Majalla"/>
              </a:rPr>
              <a:t> مايو </a:t>
            </a:r>
            <a:r>
              <a:rPr b="0" lang="ar-SY" sz="3200" spc="-1" strike="noStrike">
                <a:solidFill>
                  <a:srgbClr val="000000"/>
                </a:solidFill>
                <a:latin typeface="Sakkal Majalla"/>
                <a:ea typeface="Sakkal Majalla"/>
              </a:rPr>
              <a:t>2017</a:t>
            </a:r>
            <a:r>
              <a:rPr b="0" lang="ar-SY" sz="3200" spc="-1" strike="noStrike">
                <a:solidFill>
                  <a:srgbClr val="000000"/>
                </a:solidFill>
                <a:latin typeface="Sakkal Majalla"/>
                <a:cs typeface="Sakkal Majalla"/>
              </a:rPr>
              <a:t>، </a:t>
            </a:r>
            <a:r>
              <a:rPr b="0" lang="ar-SY" sz="3200" spc="-1" strike="noStrike" u="sng">
                <a:solidFill>
                  <a:srgbClr val="000000"/>
                </a:solidFill>
                <a:uFillTx/>
                <a:latin typeface="Sakkal Majalla"/>
                <a:cs typeface="Sakkal Majalla"/>
              </a:rPr>
              <a:t>طالبت</a:t>
            </a:r>
            <a:r>
              <a:rPr b="0" lang="ar-SY" sz="3200" spc="-1" strike="noStrike">
                <a:solidFill>
                  <a:srgbClr val="000000"/>
                </a:solidFill>
                <a:latin typeface="Sakkal Majalla"/>
                <a:ea typeface="Sakkal Majalla"/>
              </a:rPr>
              <a:t> دول الاتحاد الأوروبي باستبدال طلبات المساعدة القانونية المتبادلة بنموذج واحد فريد يدعى الأمر الأوربي للتحقيق (</a:t>
            </a:r>
            <a:r>
              <a:rPr b="0" lang="fr-FR" sz="3200" spc="-1" strike="noStrike">
                <a:solidFill>
                  <a:srgbClr val="000000"/>
                </a:solidFill>
                <a:latin typeface="Sakkal Majalla"/>
                <a:ea typeface="Sakkal Majalla"/>
              </a:rPr>
              <a:t>EIO</a:t>
            </a:r>
            <a:r>
              <a:rPr b="0" lang="ar-SY" sz="3200" spc="-1" strike="noStrike">
                <a:solidFill>
                  <a:srgbClr val="000000"/>
                </a:solidFill>
                <a:latin typeface="Sakkal Majalla"/>
                <a:ea typeface="Sakkal Majalla"/>
              </a:rPr>
              <a:t>) من أجل التعاون في القضايا الجنائية بين الدول الأعضاء (باستثناء فرق التحقيقات المشتركة)</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EF3B2-70F2-4E82-8E18-6C21FB85B2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مر الأوروبي للتحقيق (منذ مايو </a:t>
            </a:r>
            <a:r>
              <a:rPr b="1" lang="ar-SY" sz="4400" spc="-1" strike="noStrike">
                <a:solidFill>
                  <a:srgbClr val="000000"/>
                </a:solidFill>
                <a:latin typeface="Sakkal Majalla"/>
                <a:ea typeface="Sakkal Majalla"/>
              </a:rPr>
              <a:t>2017</a:t>
            </a:r>
            <a:r>
              <a:rPr b="1" lang="ar-SY" sz="4400" spc="-1" strike="noStrike">
                <a:solidFill>
                  <a:srgbClr val="000000"/>
                </a:solidFill>
                <a:latin typeface="Sakkal Majalla"/>
                <a:ea typeface="Sakkal Majalla"/>
              </a:rPr>
              <a:t>)</a:t>
            </a:r>
            <a:endParaRPr b="0" lang="en-US" sz="44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ستمارة واحدة وموحدة تملؤها دول الاتحاد الأوروبي فيما بينها (باستثناء إيرلاندا والدانمارك وباستثناء فرق التحقيقات المشتركة)</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آجال محددة لتنفيذ الأمر الأوروبي للتحقيق</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سباب محددة لرفض تنفيذ الأمر الأوروبي للتحقيق</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عايير عالية وموحدة لضمان حقوق المواطنين</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A19DC-20E6-4B63-B237-BBD0951F4F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720"/>
            <a:ext cx="8229600" cy="1495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نموذج استمارة مجلس أوروبا للمساعدة القانونية المتبادلة:</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fontScale="92000"/>
          </a:bodyPr>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نموذج استمارة طلب المساعدة المتبادلة في القضايا الجنائية المعتمد من قبل لجنة خبراء مجلس أوروبا حول إعمال الاتفاقيات الأوروبية بشأن التعاون في القضايا الجنائية (</a:t>
            </a:r>
            <a:r>
              <a:rPr b="0" lang="fr-FR" sz="3200" spc="-1" strike="noStrike">
                <a:solidFill>
                  <a:srgbClr val="000000"/>
                </a:solidFill>
                <a:latin typeface="Sakkal Majalla"/>
                <a:ea typeface="Sakkal Majalla"/>
              </a:rPr>
              <a:t>PC-OC</a:t>
            </a:r>
            <a:r>
              <a:rPr b="0" lang="ar-SY" sz="3200" spc="-1" strike="noStrike">
                <a:solidFill>
                  <a:srgbClr val="000000"/>
                </a:solidFill>
                <a:latin typeface="Sakkal Majalla"/>
                <a:ea typeface="Sakkal Majalla"/>
              </a:rPr>
              <a:t>) خلال اجتماعها </a:t>
            </a:r>
            <a:r>
              <a:rPr b="0" lang="ar-SY" sz="3200" spc="-1" strike="noStrike">
                <a:solidFill>
                  <a:srgbClr val="000000"/>
                </a:solidFill>
                <a:latin typeface="Sakkal Majalla"/>
                <a:ea typeface="Sakkal Majalla"/>
              </a:rPr>
              <a:t>69</a:t>
            </a:r>
            <a:r>
              <a:rPr b="0" lang="ar-SY" sz="3200" spc="-1" strike="noStrike">
                <a:solidFill>
                  <a:srgbClr val="000000"/>
                </a:solidFill>
                <a:latin typeface="Sakkal Majalla"/>
                <a:ea typeface="Sakkal Majalla"/>
              </a:rPr>
              <a:t> في عام </a:t>
            </a:r>
            <a:r>
              <a:rPr b="0" lang="ar-SY" sz="3200" spc="-1" strike="noStrike">
                <a:solidFill>
                  <a:srgbClr val="000000"/>
                </a:solidFill>
                <a:latin typeface="Sakkal Majalla"/>
                <a:ea typeface="Sakkal Majalla"/>
              </a:rPr>
              <a:t>2015</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غرض منه أن يكون بمثابة دليل ومرجع فقط</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ملاءمته لكل بلد وكل قضية</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9DE32C0-9B2F-468E-B519-964EA01A89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7000"/>
          </a:bodyPr>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cs typeface="Sakkal Majalla"/>
              </a:rPr>
              <a:t>عنوان الطلب</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إجراء رقم ......</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إشارة إلى الطابع المستعجل/ السري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ea typeface="Sakkal Majalla"/>
              </a:rPr>
              <a:t>1</a:t>
            </a:r>
            <a:r>
              <a:rPr b="1" lang="ar-SY" sz="1400" spc="-1" strike="noStrike">
                <a:solidFill>
                  <a:srgbClr val="000000"/>
                </a:solidFill>
                <a:latin typeface="Sakkal Majalla"/>
                <a:ea typeface="Sakkal Majalla"/>
              </a:rPr>
              <a:t>. السلطة المقدمة للطلب</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صفة الرسمية</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عنوان</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بيانات الاتصال: أرقام الهاتف والفاكس، وعناوين البريد الإلكتروني</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لغ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ea typeface="Sakkal Majalla"/>
              </a:rPr>
              <a:t>2</a:t>
            </a:r>
            <a:r>
              <a:rPr b="1" lang="ar-SY" sz="1400" spc="-1" strike="noStrike">
                <a:solidFill>
                  <a:srgbClr val="000000"/>
                </a:solidFill>
                <a:latin typeface="Sakkal Majalla"/>
                <a:ea typeface="Sakkal Majalla"/>
              </a:rPr>
              <a:t>. السلطة المقدم إليها الطلب</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الصفة الرسمي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العنوان</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ea typeface="Sakkal Majalla"/>
              </a:rPr>
              <a:t>3</a:t>
            </a:r>
            <a:r>
              <a:rPr b="1" lang="ar-SY" sz="1400" spc="-1" strike="noStrike">
                <a:solidFill>
                  <a:srgbClr val="000000"/>
                </a:solidFill>
                <a:latin typeface="Sakkal Majalla"/>
                <a:ea typeface="Sakkal Majalla"/>
              </a:rPr>
              <a:t>. الموضوع والسبب</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نوع الطلب والغرض منه - الأساس القانوني للطلب - نوع الجريمة - وصف مرحلة الإجراءات الجنائي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عند الاقتضاء:</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مبرر الاستعجال</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r>
              <a:rPr b="0" lang="ar-SY" sz="1400" spc="-1" strike="noStrike">
                <a:solidFill>
                  <a:srgbClr val="000000"/>
                </a:solidFill>
                <a:latin typeface="Sakkal Majalla"/>
                <a:ea typeface="Sakkal Majalla"/>
              </a:rPr>
              <a:t>- الإشارة إلى شرط أن يتم الإخطار بتاريخ / مكان تنفيذ الطلب بالإضافة إلى وجود أشخاص معينين مع بيانات الاتصال الخاصة بهم</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r>
              <a:rPr b="0" lang="ar-SY" sz="1400" spc="-1" strike="noStrike">
                <a:solidFill>
                  <a:srgbClr val="000000"/>
                </a:solidFill>
                <a:latin typeface="Sakkal Majalla"/>
                <a:ea typeface="Sakkal Majalla"/>
              </a:rPr>
              <a:t>-  الإشارة إلى مشاركة سابقة لموظفي إنفاذ القانون وبيانات الاتصال بهم</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r>
              <a:rPr b="0" lang="ar-SY" sz="1400" spc="-1" strike="noStrike">
                <a:solidFill>
                  <a:srgbClr val="000000"/>
                </a:solidFill>
                <a:latin typeface="Sakkal Majalla"/>
                <a:ea typeface="Sakkal Majalla"/>
              </a:rPr>
              <a:t>- معلومات عن اتصالات سابقة / طلبات المساعدة القانونية المتبادلة (بما في ذلك الأرقام المرجعية)</a:t>
            </a:r>
            <a:r>
              <a:rPr b="0" lang="en-US" sz="1400" spc="-1" strike="noStrike">
                <a:solidFill>
                  <a:srgbClr val="000000"/>
                </a:solidFill>
                <a:latin typeface="Sakkal Majalla"/>
                <a:ea typeface="Sakkal Majalla"/>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30EB3-73F7-4D9E-9164-687B5CE6B5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1800" spc="-1" strike="noStrike">
                <a:solidFill>
                  <a:srgbClr val="000000"/>
                </a:solidFill>
                <a:latin typeface="Sakkal Majalla"/>
                <a:ea typeface="Sakkal Majalla"/>
              </a:rPr>
              <a:t>4</a:t>
            </a:r>
            <a:r>
              <a:rPr b="1" lang="ar-YE" sz="1800" spc="-1" strike="noStrike">
                <a:solidFill>
                  <a:srgbClr val="000000"/>
                </a:solidFill>
                <a:latin typeface="Sakkal Majalla"/>
                <a:ea typeface="Sakkal Majalla"/>
              </a:rPr>
              <a:t>. الأشخاص المعنيين (المشتبه بهم في المقام الأول)</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اسم</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جنس</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جنسي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عنوان</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وقعهم </a:t>
            </a:r>
            <a:r>
              <a:rPr b="0" lang="ar-YE" sz="1800" spc="-1" strike="noStrike">
                <a:solidFill>
                  <a:srgbClr val="000000"/>
                </a:solidFill>
                <a:latin typeface="Sakkal Majalla"/>
                <a:cs typeface="Sakkal Majalla"/>
              </a:rPr>
              <a:t>في الإجراءات القانوني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 وإن توفرت</a:t>
            </a:r>
            <a:r>
              <a:rPr b="0" lang="ar-YE" sz="1800" spc="-1" strike="noStrike">
                <a:solidFill>
                  <a:srgbClr val="000000"/>
                </a:solidFill>
                <a:latin typeface="Sakkal Majalla"/>
                <a:ea typeface="Sakkal Majalla"/>
              </a:rPr>
              <a:t>: - </a:t>
            </a:r>
            <a:r>
              <a:rPr b="0" lang="ar-SY" sz="1800" spc="-1" strike="noStrike">
                <a:solidFill>
                  <a:srgbClr val="000000"/>
                </a:solidFill>
                <a:latin typeface="Sakkal Majalla"/>
                <a:cs typeface="Sakkal Majalla"/>
              </a:rPr>
              <a:t>رقم بطاقة التعريف</a:t>
            </a:r>
            <a:r>
              <a:rPr b="0" lang="ar-YE" sz="1800" spc="-1" strike="noStrike">
                <a:solidFill>
                  <a:srgbClr val="000000"/>
                </a:solidFill>
                <a:latin typeface="Sakkal Majalla"/>
                <a:ea typeface="Sakkal Majalla"/>
              </a:rPr>
              <a:t>/جواز السفر - الاسم المستعار - تاريخ / مكان الميلاد</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1800" spc="-1" strike="noStrike">
                <a:solidFill>
                  <a:srgbClr val="000000"/>
                </a:solidFill>
                <a:latin typeface="Sakkal Majalla"/>
                <a:cs typeface="Sakkal Majalla"/>
              </a:rPr>
              <a:t>معلومات عن الشخص الاعتباري</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اسم</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 وإن توفرت </a:t>
            </a:r>
            <a:endParaRPr b="0" lang="en-US" sz="1800" spc="-1" strike="noStrike">
              <a:solidFill>
                <a:srgbClr val="000000"/>
              </a:solidFill>
              <a:latin typeface="Calibri"/>
            </a:endParaRPr>
          </a:p>
          <a:p>
            <a:pPr lvl="1" marL="743040" indent="-285840" algn="r" rtl="1">
              <a:lnSpc>
                <a:spcPct val="100000"/>
              </a:lnSpc>
              <a:spcBef>
                <a:spcPts val="349"/>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YE" sz="1400" spc="-1" strike="noStrike">
                <a:solidFill>
                  <a:srgbClr val="000000"/>
                </a:solidFill>
                <a:latin typeface="Sakkal Majalla"/>
                <a:cs typeface="Sakkal Majalla"/>
              </a:rPr>
              <a:t>رقم التسجيل</a:t>
            </a:r>
            <a:r>
              <a:rPr b="0" lang="ar-SY" sz="1400" spc="-1" strike="noStrike">
                <a:solidFill>
                  <a:srgbClr val="000000"/>
                </a:solidFill>
                <a:latin typeface="Sakkal Majalla"/>
                <a:cs typeface="Sakkal Majalla"/>
              </a:rPr>
              <a:t>،</a:t>
            </a:r>
            <a:r>
              <a:rPr b="0" lang="ar-YE" sz="1400" spc="-1" strike="noStrike">
                <a:solidFill>
                  <a:srgbClr val="000000"/>
                </a:solidFill>
                <a:latin typeface="Sakkal Majalla"/>
                <a:ea typeface="Sakkal Majalla"/>
              </a:rPr>
              <a:t> عنوان </a:t>
            </a:r>
            <a:r>
              <a:rPr b="0" lang="ar-SY" sz="1400" spc="-1" strike="noStrike">
                <a:solidFill>
                  <a:srgbClr val="000000"/>
                </a:solidFill>
                <a:latin typeface="Sakkal Majalla"/>
                <a:cs typeface="Sakkal Majalla"/>
              </a:rPr>
              <a:t>المقر</a:t>
            </a:r>
            <a:endParaRPr b="0" lang="en-US" sz="1400" spc="-1" strike="noStrike">
              <a:solidFill>
                <a:srgbClr val="000000"/>
              </a:solidFill>
              <a:latin typeface="Calibri"/>
            </a:endParaRPr>
          </a:p>
          <a:p>
            <a:pPr lvl="1" marL="743040" indent="-285840" algn="r" rtl="1">
              <a:lnSpc>
                <a:spcPct val="100000"/>
              </a:lnSpc>
              <a:spcBef>
                <a:spcPts val="451"/>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YE" sz="1800" spc="-1" strike="noStrike">
                <a:solidFill>
                  <a:srgbClr val="000000"/>
                </a:solidFill>
                <a:latin typeface="Sakkal Majalla"/>
                <a:cs typeface="Sakkal Majalla"/>
              </a:rPr>
              <a:t>عناوين مختلف</a:t>
            </a:r>
            <a:r>
              <a:rPr b="0" lang="ar-SY" sz="1800" spc="-1" strike="noStrike">
                <a:solidFill>
                  <a:srgbClr val="000000"/>
                </a:solidFill>
                <a:latin typeface="Sakkal Majalla"/>
                <a:ea typeface="Sakkal Majalla"/>
              </a:rPr>
              <a:t> </a:t>
            </a:r>
            <a:r>
              <a:rPr b="0" lang="ar-YE" sz="1800" spc="-1" strike="noStrike">
                <a:solidFill>
                  <a:srgbClr val="000000"/>
                </a:solidFill>
                <a:latin typeface="Sakkal Majalla"/>
                <a:cs typeface="Sakkal Majalla"/>
              </a:rPr>
              <a:t>الفروع</a:t>
            </a:r>
            <a:endParaRPr b="0" lang="en-US" sz="1800" spc="-1" strike="noStrike">
              <a:solidFill>
                <a:srgbClr val="000000"/>
              </a:solidFill>
              <a:latin typeface="Calibri"/>
            </a:endParaRPr>
          </a:p>
          <a:p>
            <a:pPr lvl="1" marL="743040" indent="-285840" algn="r" rtl="1">
              <a:lnSpc>
                <a:spcPct val="100000"/>
              </a:lnSpc>
              <a:spcBef>
                <a:spcPts val="451"/>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800" spc="-1" strike="noStrike">
                <a:solidFill>
                  <a:srgbClr val="000000"/>
                </a:solidFill>
                <a:latin typeface="Sakkal Majalla"/>
                <a:cs typeface="Sakkal Majalla"/>
              </a:rPr>
              <a:t>بيانات </a:t>
            </a:r>
            <a:r>
              <a:rPr b="0" lang="ar-YE" sz="1800" spc="-1" strike="noStrike">
                <a:solidFill>
                  <a:srgbClr val="000000"/>
                </a:solidFill>
                <a:latin typeface="Sakkal Majalla"/>
                <a:cs typeface="Sakkal Majalla"/>
              </a:rPr>
              <a:t>الاتصال </a:t>
            </a:r>
            <a:r>
              <a:rPr b="0" lang="ar-SY" sz="1800" spc="-1" strike="noStrike">
                <a:solidFill>
                  <a:srgbClr val="000000"/>
                </a:solidFill>
                <a:latin typeface="Sakkal Majalla"/>
                <a:cs typeface="Sakkal Majalla"/>
              </a:rPr>
              <a:t>الخاصة با</a:t>
            </a:r>
            <a:r>
              <a:rPr b="0" lang="ar-YE" sz="1800" spc="-1" strike="noStrike">
                <a:solidFill>
                  <a:srgbClr val="000000"/>
                </a:solidFill>
                <a:latin typeface="Sakkal Majalla"/>
                <a:cs typeface="Sakkal Majalla"/>
              </a:rPr>
              <a:t>لشخص المخول للتصرف نيابة عن الشركة</a:t>
            </a:r>
            <a:r>
              <a:rPr b="0" lang="en-US"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C5F49-0854-4B5F-B915-50F27A6C38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7000"/>
          </a:bodyPr>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ea typeface="Sakkal Majalla"/>
              </a:rPr>
              <a:t>5</a:t>
            </a:r>
            <a:r>
              <a:rPr b="1" lang="ar-SY" sz="1800" spc="-1" strike="noStrike">
                <a:solidFill>
                  <a:srgbClr val="000000"/>
                </a:solidFill>
                <a:latin typeface="Sakkal Majalla"/>
                <a:ea typeface="Sakkal Majalla"/>
              </a:rPr>
              <a:t>. التدابير المطلوب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 الإنابة القضائي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cs typeface="Sakkal Majalla"/>
              </a:rPr>
              <a:t>أولا. الوقائع والمعلومات القانونية عن الجريم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لخص الوقائع ذات الصلة التي تشير إلى توقيت ومكان وطريقة ارتكاب الجريمة </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توصيف القانوني للجريمة مع الإشارة إلى الأحكام ذات الصلة بما في ذلك نطاق العقوبات المطبق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وصف واضح للروابط بين الجريمة والشخص وبين الجريمة والأدلة / التدابير / الأصول الإجرامية المطلوبة في الدولة المطلوب منها المساعد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أضرار الناجمة عن الجريم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عن الضحايا</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ضرورة، الأحكام والمقتضيات المرتبطة بالمدة الزمني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ي معلومات إضافية أخرى قد تساعد السلطة المطلوب منها المساعدة على تنفيذ الطلب</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akkal Majalla"/>
                <a:ea typeface="Sakkal Majalla"/>
              </a:rPr>
              <a:t>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47CC6-325E-4D38-AA49-13A5F2640E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1680"/>
            <a:ext cx="8229600" cy="5589720"/>
          </a:xfrm>
          <a:prstGeom prst="rect">
            <a:avLst/>
          </a:prstGeom>
          <a:noFill/>
          <a:ln w="0">
            <a:noFill/>
          </a:ln>
        </p:spPr>
        <p:txBody>
          <a:bodyPr anchor="t">
            <a:normAutofit fontScale="93000"/>
          </a:bodyPr>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cs typeface="Sakkal Majalla"/>
              </a:rPr>
              <a:t>ثانيا. أنواع التدابير</a:t>
            </a:r>
            <a:endParaRPr b="0" lang="en-US" sz="18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أ. الاستماع/استجواب الشهود، والخبراء، والمشتبه بهم، والمتهمين وغيرهم من الأشخاص: طرق محددة</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أ.</a:t>
            </a:r>
            <a:r>
              <a:rPr b="1" lang="ar-SY" sz="2000" spc="-1" strike="noStrike">
                <a:solidFill>
                  <a:srgbClr val="000000"/>
                </a:solidFill>
                <a:latin typeface="Sakkal Majalla"/>
                <a:ea typeface="Sakkal Majalla"/>
              </a:rPr>
              <a:t>1</a:t>
            </a:r>
            <a:r>
              <a:rPr b="1" lang="ar-SY" sz="2000" spc="-1" strike="noStrike">
                <a:solidFill>
                  <a:srgbClr val="000000"/>
                </a:solidFill>
                <a:latin typeface="Sakkal Majalla"/>
                <a:ea typeface="Sakkal Majalla"/>
              </a:rPr>
              <a:t>. الاستماع/الاستجواب من قبل السلطة المطلوب منها المساعدة</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السلطة المختصة التي ينبغي أن تجري جلسة الاستماع</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وضع الشخص المراد الاستماع إلي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علومات عن الحقوق والالتزامات (مثل جلسة استماع تحت القسم / تأكيد أو الحق في الاستعانة بمحام / مترجم فوري) التي يجب إخبار الشخص الذي يتم الاستماع إليه بها</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الأسئلة الواجب طرحها</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الإشارة إلى ما إذا كان الشخص الاستماع إليه يحتاج إلى حماية (بما في ذلك تفاصيل عن اتفاقات محتملة قائمة بين الطرفين بخصوص هذه المسألة)</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FC5F6-879C-40F5-AB10-2EF1FC6761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a:bodyPr>
          <a:p>
            <a:pPr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ينبغي أن يكون المشاركون قادرين على:</a:t>
            </a:r>
            <a:endParaRPr b="0" lang="en-US" sz="3200" spc="-1" strike="noStrike">
              <a:solidFill>
                <a:srgbClr val="000000"/>
              </a:solidFill>
              <a:latin typeface="Calibri"/>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حسين </a:t>
            </a:r>
            <a:r>
              <a:rPr b="0" lang="ar-SA" sz="3200" spc="-1" strike="noStrike">
                <a:solidFill>
                  <a:srgbClr val="000000"/>
                </a:solidFill>
                <a:latin typeface="Sakkal Majalla"/>
                <a:cs typeface="Sakkal Majalla"/>
              </a:rPr>
              <a:t>أو </a:t>
            </a:r>
            <a:r>
              <a:rPr b="0" lang="ar-SY" sz="3200" spc="-1" strike="noStrike">
                <a:solidFill>
                  <a:srgbClr val="000000"/>
                </a:solidFill>
                <a:latin typeface="Sakkal Majalla"/>
                <a:cs typeface="Sakkal Majalla"/>
              </a:rPr>
              <a:t>تحديث معرفتهم ل</a:t>
            </a:r>
            <a:r>
              <a:rPr b="0" lang="ar-SA" sz="3200" spc="-1" strike="noStrike">
                <a:solidFill>
                  <a:srgbClr val="000000"/>
                </a:solidFill>
                <a:latin typeface="Sakkal Majalla"/>
                <a:cs typeface="Sakkal Majalla"/>
              </a:rPr>
              <a:t>لمبادئ </a:t>
            </a:r>
            <a:r>
              <a:rPr b="0" lang="ar-SY" sz="3200" spc="-1" strike="noStrike">
                <a:solidFill>
                  <a:srgbClr val="000000"/>
                </a:solidFill>
                <a:latin typeface="Sakkal Majalla"/>
                <a:cs typeface="Sakkal Majalla"/>
              </a:rPr>
              <a:t>العامة </a:t>
            </a:r>
            <a:r>
              <a:rPr b="0" lang="ar-SA" sz="3200" spc="-1" strike="noStrike">
                <a:solidFill>
                  <a:srgbClr val="000000"/>
                </a:solidFill>
                <a:latin typeface="Sakkal Majalla"/>
                <a:cs typeface="Sakkal Majalla"/>
              </a:rPr>
              <a:t>للمساعدة القانونية المتبادلة </a:t>
            </a:r>
            <a:endParaRPr b="0" lang="en-US" sz="3200" spc="-1" strike="noStrike">
              <a:solidFill>
                <a:srgbClr val="000000"/>
              </a:solidFill>
              <a:latin typeface="Calibri"/>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عرفة طريقة تعزيز حظوظ تنفيذ طلب بالمساعدة القانونية المتبادلة عند مرحلة </a:t>
            </a:r>
            <a:r>
              <a:rPr b="0" lang="ar-SA" sz="3200" spc="-1" strike="noStrike">
                <a:solidFill>
                  <a:srgbClr val="000000"/>
                </a:solidFill>
                <a:latin typeface="Sakkal Majalla"/>
                <a:cs typeface="Sakkal Majalla"/>
              </a:rPr>
              <a:t>صياغة الطلب</a:t>
            </a:r>
            <a:r>
              <a:rPr b="0"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وخي الفعالية عند تلقي </a:t>
            </a:r>
            <a:r>
              <a:rPr b="0" lang="ar-SA" sz="3200" spc="-1" strike="noStrike">
                <a:solidFill>
                  <a:srgbClr val="000000"/>
                </a:solidFill>
                <a:latin typeface="Sakkal Majalla"/>
                <a:cs typeface="Sakkal Majalla"/>
              </a:rPr>
              <a:t>طلبات </a:t>
            </a:r>
            <a:r>
              <a:rPr b="0" lang="ar-SY" sz="3200" spc="-1" strike="noStrike">
                <a:solidFill>
                  <a:srgbClr val="000000"/>
                </a:solidFill>
                <a:latin typeface="Sakkal Majalla"/>
                <a:cs typeface="Sakkal Majalla"/>
              </a:rPr>
              <a:t>بالمساعدة القانونية المتبادلة من دولة أجنبية</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4A021E-1337-4852-9C54-51C3F33A9B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1680"/>
            <a:ext cx="8415360" cy="5046840"/>
          </a:xfrm>
          <a:prstGeom prst="rect">
            <a:avLst/>
          </a:prstGeom>
          <a:noFill/>
          <a:ln w="0">
            <a:noFill/>
          </a:ln>
        </p:spPr>
        <p:txBody>
          <a:bodyPr anchor="t">
            <a:normAutofit fontScale="90000"/>
          </a:bodyPr>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أ.</a:t>
            </a:r>
            <a:r>
              <a:rPr b="1" lang="ar-SY" sz="2000" spc="-1" strike="noStrike">
                <a:solidFill>
                  <a:srgbClr val="000000"/>
                </a:solidFill>
                <a:latin typeface="Sakkal Majalla"/>
                <a:ea typeface="Sakkal Majalla"/>
              </a:rPr>
              <a:t>2</a:t>
            </a:r>
            <a:r>
              <a:rPr b="1" lang="ar-SY" sz="2000" spc="-1" strike="noStrike">
                <a:solidFill>
                  <a:srgbClr val="000000"/>
                </a:solidFill>
                <a:latin typeface="Sakkal Majalla"/>
                <a:ea typeface="Sakkal Majalla"/>
              </a:rPr>
              <a:t>. الاستماع/ الاستجواب باستخدام تقنية المداولة بالفيديو</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أسباب عدم الرغبة في الحضور أو عدم إمكانية الحضور</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سم السلطة القضائية التي تجري جلسة الاستماع / الاستجواب</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فاصيل المتعلقة بالترتيبات العملية (المعلومات التقنية عن الوسائل المتاحة، والمقترحات المتعلقة بدفع التكاليف، وبيانات الاتصال الخاصة بالمسؤول الفني، إلخ.)</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خطار بحقوق وواجبات الشخص المراد الاستماع إليه/ استجواب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واريخ المقترحة / التوقيت المقترح</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ضرورة وجود مترجم فوري</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تدابير حماية الشخص المراد الاستماع إليه / استجواب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ما إذا كان المشتبه به أو الشخص المتهم يوافق على جلسة الاستماع / الاستجواب</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بيان الأسئلة الواجب طرحها</a:t>
            </a:r>
            <a:endParaRPr b="0" lang="en-US" sz="20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C7BBD-6C56-4ECF-B349-0E0795F548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34520"/>
            <a:ext cx="8229600" cy="5675400"/>
          </a:xfrm>
          <a:prstGeom prst="rect">
            <a:avLst/>
          </a:prstGeom>
          <a:noFill/>
          <a:ln w="0">
            <a:noFill/>
          </a:ln>
        </p:spPr>
        <p:txBody>
          <a:bodyPr anchor="t">
            <a:normAutofit/>
          </a:bodyPr>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أ.</a:t>
            </a:r>
            <a:r>
              <a:rPr b="1" lang="ar-SY" sz="2800" spc="-1" strike="noStrike">
                <a:solidFill>
                  <a:srgbClr val="000000"/>
                </a:solidFill>
                <a:latin typeface="Sakkal Majalla"/>
                <a:ea typeface="Sakkal Majalla"/>
              </a:rPr>
              <a:t>3</a:t>
            </a:r>
            <a:r>
              <a:rPr b="1" lang="ar-SY" sz="2800" spc="-1" strike="noStrike">
                <a:solidFill>
                  <a:srgbClr val="000000"/>
                </a:solidFill>
                <a:latin typeface="Sakkal Majalla"/>
                <a:ea typeface="Sakkal Majalla"/>
              </a:rPr>
              <a:t>. جلسة الاستماع / الاستجواب عبر مؤتمر هاتفي</a:t>
            </a:r>
            <a:endParaRPr b="0" lang="en-US" sz="2800" spc="-1" strike="noStrike">
              <a:solidFill>
                <a:srgbClr val="000000"/>
              </a:solidFill>
              <a:latin typeface="Calibri"/>
            </a:endParaRPr>
          </a:p>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endParaRPr b="0" lang="en-US" sz="2800" spc="-1" strike="noStrike">
              <a:solidFill>
                <a:srgbClr val="000000"/>
              </a:solidFill>
              <a:latin typeface="Calibri"/>
            </a:endParaRPr>
          </a:p>
          <a:p>
            <a:pPr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إشارة إلى اسم السلطة القضائية أو الأشخاص الذين سيجرون جلسة الاستماع/الاستجواب</a:t>
            </a:r>
            <a:endParaRPr b="0" lang="en-US" sz="2800" spc="-1" strike="noStrike">
              <a:solidFill>
                <a:srgbClr val="000000"/>
              </a:solidFill>
              <a:latin typeface="Calibri"/>
            </a:endParaRPr>
          </a:p>
          <a:p>
            <a:pPr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إشارة إلى أن الشاهد أو الخبير يرغب في المشاركة في جلسة الاستماع/الاستجواب عبر مؤتمر هاتفي</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9E857-1358-42C5-8AA6-B06A079864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5942160"/>
          </a:xfrm>
          <a:prstGeom prst="rect">
            <a:avLst/>
          </a:prstGeom>
          <a:noFill/>
          <a:ln w="0">
            <a:noFill/>
          </a:ln>
        </p:spPr>
        <p:txBody>
          <a:bodyPr anchor="t">
            <a:normAutofit/>
          </a:bodyPr>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ب. الحصول على الأدلة</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ب. </a:t>
            </a:r>
            <a:r>
              <a:rPr b="1" lang="ar-SY" sz="2000" spc="-1" strike="noStrike">
                <a:solidFill>
                  <a:srgbClr val="000000"/>
                </a:solidFill>
                <a:latin typeface="Sakkal Majalla"/>
                <a:ea typeface="Sakkal Majalla"/>
              </a:rPr>
              <a:t>1</a:t>
            </a:r>
            <a:r>
              <a:rPr b="1" lang="ar-SY" sz="2000" spc="-1" strike="noStrike">
                <a:solidFill>
                  <a:srgbClr val="000000"/>
                </a:solidFill>
                <a:latin typeface="Sakkal Majalla"/>
                <a:ea typeface="Sakkal Majalla"/>
              </a:rPr>
              <a:t>.</a:t>
            </a:r>
            <a:r>
              <a:rPr b="1" lang="fr-FR" sz="2000" spc="-1" strike="noStrike">
                <a:solidFill>
                  <a:srgbClr val="000000"/>
                </a:solidFill>
                <a:latin typeface="Sakkal Majalla"/>
                <a:ea typeface="Sakkal Majalla"/>
              </a:rPr>
              <a:t> </a:t>
            </a:r>
            <a:r>
              <a:rPr b="1" lang="ar-SY" sz="2000" spc="-1" strike="noStrike">
                <a:solidFill>
                  <a:srgbClr val="000000"/>
                </a:solidFill>
                <a:latin typeface="Sakkal Majalla"/>
                <a:cs typeface="Sakkal Majalla"/>
              </a:rPr>
              <a:t>التدابير العامة</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العناصر المطلوبة</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البحث والمصادرة</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نوع البحث: تفتيش جسدي/ تفتيش المنازل / مباني أخرى</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قدر الإمكان، تحديد دقيق للشخص، أو الأماكن المطلوب تفتيشها (الموقع، الاهتمام بالممتلكات، الحسابات البنكية)</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الوثائق، والسجلات، والبيانات، إلخ.</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قديم تفاصيل عن الروابط بين الشخص، والإجراءات الأجنبية والتدابير المطلوبة، على سبيل المثال، المكان المطلوب تفتيش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نسخة من المذكرة/ الأمر الصادر عن السلطات المقدمة للطلب</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75B543-E52E-4C84-BB23-7C04C3369D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82600"/>
            <a:ext cx="8229600" cy="5889600"/>
          </a:xfrm>
          <a:prstGeom prst="rect">
            <a:avLst/>
          </a:prstGeom>
          <a:noFill/>
          <a:ln w="0">
            <a:noFill/>
          </a:ln>
        </p:spPr>
        <p:txBody>
          <a:bodyPr anchor="t">
            <a:normAutofit fontScale="93000"/>
          </a:bodyPr>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ب.</a:t>
            </a:r>
            <a:r>
              <a:rPr b="1" lang="ar-SY" sz="1800" spc="-1" strike="noStrike">
                <a:solidFill>
                  <a:srgbClr val="000000"/>
                </a:solidFill>
                <a:latin typeface="Sakkal Majalla"/>
                <a:ea typeface="Sakkal Majalla"/>
              </a:rPr>
              <a:t>2</a:t>
            </a:r>
            <a:r>
              <a:rPr b="1" lang="ar-SY" sz="1800" spc="-1" strike="noStrike">
                <a:solidFill>
                  <a:srgbClr val="000000"/>
                </a:solidFill>
                <a:latin typeface="Sakkal Majalla"/>
                <a:ea typeface="Sakkal Majalla"/>
              </a:rPr>
              <a:t>. </a:t>
            </a:r>
            <a:r>
              <a:rPr b="1" lang="fr-FR" sz="1800" spc="-1" strike="noStrike">
                <a:solidFill>
                  <a:srgbClr val="000000"/>
                </a:solidFill>
                <a:latin typeface="Sakkal Majalla"/>
                <a:ea typeface="Sakkal Majalla"/>
              </a:rPr>
              <a:t> </a:t>
            </a:r>
            <a:r>
              <a:rPr b="1" lang="ar-SY" sz="1800" spc="-1" strike="noStrike">
                <a:solidFill>
                  <a:srgbClr val="000000"/>
                </a:solidFill>
                <a:latin typeface="Sakkal Majalla"/>
                <a:cs typeface="Sakkal Majalla"/>
              </a:rPr>
              <a:t>التدابير المحددة:</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ea typeface="Sakkal Majalla"/>
              </a:rPr>
              <a:t> ب.</a:t>
            </a:r>
            <a:r>
              <a:rPr b="1" lang="ar-SY" sz="1800" spc="-1" strike="noStrike" u="sng">
                <a:solidFill>
                  <a:srgbClr val="000000"/>
                </a:solidFill>
                <a:uFillTx/>
                <a:latin typeface="Sakkal Majalla"/>
                <a:ea typeface="Sakkal Majalla"/>
              </a:rPr>
              <a:t>2.1</a:t>
            </a:r>
            <a:r>
              <a:rPr b="1" lang="ar-SY" sz="1800" spc="-1" strike="noStrike" u="sng">
                <a:solidFill>
                  <a:srgbClr val="000000"/>
                </a:solidFill>
                <a:uFillTx/>
                <a:latin typeface="Sakkal Majalla"/>
                <a:ea typeface="Sakkal Majalla"/>
              </a:rPr>
              <a:t>. البيانات الإلكترونية</a:t>
            </a:r>
            <a:endParaRPr b="0" lang="en-US" sz="1800" spc="-1" strike="noStrike">
              <a:solidFill>
                <a:srgbClr val="000000"/>
              </a:solidFill>
              <a:latin typeface="Calibri"/>
            </a:endParaRPr>
          </a:p>
          <a:p>
            <a:pPr algn="just" rtl="1">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حفظ البيانات</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كافية لتحديد البيانات ذات الصلة التي يجب حفظها، بما في ذلك موقعها (القيم على البيانات المخزنة على الكمبيوتر، موقع نظام الكمبيوتر)</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سباب الاعتقاد بأن هناك مخاطر قد تعرض البيانات للضياع أو التعديل</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شارة إلى أن طلب المساعدة القانونية المتبادلة سيتبع، من أجل الحصول على البيانات المحفوظة.</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ea typeface="Sakkal Majalla"/>
              </a:rPr>
              <a:t> * البحث إلى البيانات أو النفاذ إليها بطريقة مماثلة أو مصادرتها أو تأمينها بطريقة مماثلة، أو الكشف عن البيانات</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غرض المحدد</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كافية لتحديد البيانات المراد مصادرتها، تأمينها أو الكشف عنها، بما في ذلك، إن توفرت، معلومات عن موقعها المادي والشخص المتحكم في البيانات (القيم على بيانات الكمبيوتر المخزنة)، والبيانات الفنية اللازمة لأداء هذا العمل</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إلى أقصى حد ممكن، التحديد الدقيق للشخص، أو الأماكن التي سيتم تفتيشها مع إعطاء تفاصيل حول الروابط بين الشخص والبيانات والمكان المطلوب تفتيشه</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نقطة الاتصال</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عن أي طلب سابق بحفظ البيانات</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B4E5B-A5E1-480C-8422-5923095B3C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5573880"/>
          </a:xfrm>
          <a:prstGeom prst="rect">
            <a:avLst/>
          </a:prstGeom>
          <a:noFill/>
          <a:ln w="0">
            <a:noFill/>
          </a:ln>
        </p:spPr>
        <p:txBody>
          <a:bodyPr anchor="t">
            <a:normAutofit fontScale="98000"/>
          </a:bodyPr>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cs typeface="Sakkal Majalla"/>
              </a:rPr>
              <a:t>ب.</a:t>
            </a:r>
            <a:r>
              <a:rPr b="1" lang="ar-SY" sz="1800" spc="-1" strike="noStrike" u="sng">
                <a:solidFill>
                  <a:srgbClr val="000000"/>
                </a:solidFill>
                <a:uFillTx/>
                <a:latin typeface="Sakkal Majalla"/>
                <a:ea typeface="Sakkal Majalla"/>
              </a:rPr>
              <a:t>2.2</a:t>
            </a:r>
            <a:r>
              <a:rPr b="1" lang="ar-SY" sz="1800" spc="-1" strike="noStrike" u="sng">
                <a:solidFill>
                  <a:srgbClr val="000000"/>
                </a:solidFill>
                <a:uFillTx/>
                <a:latin typeface="Sakkal Majalla"/>
                <a:ea typeface="Sakkal Majalla"/>
              </a:rPr>
              <a:t>. مصادرة و/أو حجز الأصول الجنائي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سباب الاعتقاد أن الأصول موجودة في الدولة المطلوب منها المساعد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شارة إلى الإجراءات التي ترغب الدولة مقدمة الطلب أن يتم اتباعها</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شارة إلى أن التدبير المطلوب أو أي تدابير مماثلة يمكن اتخاذها في إقليم الدولة مقدمة الطلب بموجب قانونها الوطني</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مرفقات: نسخة طبق الأصل لأمر المصادرة/الحجز وبيان الأسس المبررة للطلب؛ و، عند الاقتضاء، شهادة سارية بأن المصادرة واجبة التنفيذ</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معلومات المتعلقة بالحسابات البنكية في الدولة المطلوب منها المساعدة</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ما تأخذ المصادرة شكل شرط لدفع مبلغ من المال يقابل قيمة الأصول، يجب تقديم معلومات عن القيمة القصوى للأصول الواجب مصادرتها.</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إرفاق مستندات تثبت أنه تم منح أطراف ثالثة الفرصة للمطالبة بحقوقها - معلومات عن طلبات مماثلة أرسلت إلى دول أخرى</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عن طلبات سابقة للحصول على أدلة / لتقييد الأصول أو مصادرة أشياء مرتبطة بهذا الطلب (اسم المدعى عليه / الشخص المدان) </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رجاع: بيان القطع/ المواد التي تم الحصول عليها بوسائل إجرامية والتي ينبغي أن تكون تحت تصرف الدولة مقدمة الطلب لإرجاعها إلى أصحابها الشرعيين</a:t>
            </a:r>
            <a:r>
              <a:rPr b="0" lang="en-US" sz="1800" spc="-1" strike="noStrike">
                <a:solidFill>
                  <a:srgbClr val="000000"/>
                </a:solidFill>
                <a:latin typeface="Sakkal Majalla"/>
                <a:ea typeface="Sakkal Majalla"/>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CFFBFC-5E9A-4ED3-8E39-0F24520D10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320"/>
            <a:ext cx="8229600" cy="5791320"/>
          </a:xfrm>
          <a:prstGeom prst="rect">
            <a:avLst/>
          </a:prstGeom>
          <a:noFill/>
          <a:ln w="0">
            <a:noFill/>
          </a:ln>
        </p:spPr>
        <p:txBody>
          <a:bodyPr anchor="t">
            <a:normAutofit fontScale="88000"/>
          </a:bodyPr>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u="sng">
                <a:solidFill>
                  <a:srgbClr val="000000"/>
                </a:solidFill>
                <a:uFillTx/>
                <a:latin typeface="Sakkal Majalla"/>
                <a:cs typeface="Sakkal Majalla"/>
              </a:rPr>
              <a:t>ت. الحصول على المعلومات من المؤسسات المالية</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فاصيل المؤسسة المالية (اسم البنك أو المؤسسة المالية، عنوان الفرع الذي يوجد فيه الحساب)</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رقم الحساب</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الفترة الزمنية المعنية بطلب المعلومات - أسباب الاعتقاد بأن الحساب موجود في الدولة المطلوب منها المساعدة</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u="sng">
                <a:solidFill>
                  <a:srgbClr val="000000"/>
                </a:solidFill>
                <a:uFillTx/>
                <a:latin typeface="Sakkal Majalla"/>
                <a:cs typeface="Sakkal Majalla"/>
              </a:rPr>
              <a:t>ث. الحصول على بيانات الهاتف / بروتوكول الإنترنت</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a:t>
            </a:r>
            <a:r>
              <a:rPr b="1" lang="ar-SY" sz="1600" spc="-1" strike="noStrike">
                <a:solidFill>
                  <a:srgbClr val="000000"/>
                </a:solidFill>
                <a:latin typeface="Sakkal Majalla"/>
                <a:ea typeface="Sakkal Majalla"/>
              </a:rPr>
              <a:t>1</a:t>
            </a:r>
            <a:r>
              <a:rPr b="1" lang="ar-SY" sz="1600" spc="-1" strike="noStrike">
                <a:solidFill>
                  <a:srgbClr val="000000"/>
                </a:solidFill>
                <a:latin typeface="Sakkal Majalla"/>
                <a:ea typeface="Sakkal Majalla"/>
              </a:rPr>
              <a:t>.</a:t>
            </a:r>
            <a:r>
              <a:rPr b="1" lang="fr-FR" sz="1600" spc="-1" strike="noStrike">
                <a:solidFill>
                  <a:srgbClr val="000000"/>
                </a:solidFill>
                <a:latin typeface="Sakkal Majalla"/>
                <a:ea typeface="Sakkal Majalla"/>
              </a:rPr>
              <a:t> </a:t>
            </a:r>
            <a:r>
              <a:rPr b="1" lang="ar-SY" sz="1600" spc="-1" strike="noStrike">
                <a:solidFill>
                  <a:srgbClr val="000000"/>
                </a:solidFill>
                <a:latin typeface="Sakkal Majalla"/>
                <a:cs typeface="Sakkal Majalla"/>
              </a:rPr>
              <a:t>المعلومات المتعلقة ببيانات الهاتف</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رقم الهاتف</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علومات المتعلقة بصاحب رقم الهاتف</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الفترة الزمنية لبيانات الهاتف المطلوبة</a:t>
            </a:r>
            <a:endParaRPr b="0" lang="en-US" sz="1600" spc="-1" strike="noStrike">
              <a:solidFill>
                <a:srgbClr val="000000"/>
              </a:solidFill>
              <a:latin typeface="Calibri"/>
            </a:endParaRPr>
          </a:p>
          <a:p>
            <a:pPr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a:t>
            </a:r>
            <a:r>
              <a:rPr b="1" lang="ar-SY" sz="1600" spc="-1" strike="noStrike">
                <a:solidFill>
                  <a:srgbClr val="000000"/>
                </a:solidFill>
                <a:latin typeface="Sakkal Majalla"/>
                <a:ea typeface="Sakkal Majalla"/>
              </a:rPr>
              <a:t>2</a:t>
            </a:r>
            <a:r>
              <a:rPr b="1" lang="ar-SY" sz="1600" spc="-1" strike="noStrike">
                <a:solidFill>
                  <a:srgbClr val="000000"/>
                </a:solidFill>
                <a:latin typeface="Sakkal Majalla"/>
                <a:ea typeface="Sakkal Majalla"/>
              </a:rPr>
              <a:t>. المعلومات المتعلقة ببيانات بروتوكول الإنترنت</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عنوان بروتوكول الإنترنت (عنوان بروتوكول الإنترنت، معرف هوية المستخدم المطلوب (عندما يكون عنوان بروتوكول الإنترنت معروفًا) ، والختم الزمني (تاريخ وتوقيت الاستخدام)، واسم مزود خدمة الإنترنت (</a:t>
            </a:r>
            <a:r>
              <a:rPr b="0" lang="fr-FR" sz="1600" spc="-1" strike="noStrike">
                <a:solidFill>
                  <a:srgbClr val="000000"/>
                </a:solidFill>
                <a:latin typeface="Sakkal Majalla"/>
                <a:ea typeface="Sakkal Majalla"/>
              </a:rPr>
              <a:t>ISP</a:t>
            </a:r>
            <a:r>
              <a:rPr b="0" lang="ar-SY" sz="1600" spc="-1" strike="noStrike">
                <a:solidFill>
                  <a:srgbClr val="000000"/>
                </a:solidFill>
                <a:latin typeface="Sakkal Majalla"/>
                <a:ea typeface="Sakkal Majalla"/>
              </a:rPr>
              <a:t>) </a:t>
            </a:r>
            <a:r>
              <a:rPr b="0" lang="fr-FR" sz="1600" spc="-1" strike="noStrike">
                <a:solidFill>
                  <a:srgbClr val="000000"/>
                </a:solidFill>
                <a:latin typeface="Sakkal Majalla"/>
                <a:ea typeface="Sakkal Majalla"/>
              </a:rPr>
              <a:t>- </a:t>
            </a:r>
            <a:r>
              <a:rPr b="0" lang="ar-SY" sz="1600" spc="-1" strike="noStrike">
                <a:solidFill>
                  <a:srgbClr val="000000"/>
                </a:solidFill>
                <a:latin typeface="Sakkal Majalla"/>
                <a:ea typeface="Sakkal Majalla"/>
              </a:rPr>
              <a:t> تحديد اسم وعنوان المشتبه به (عندما يكون معروفًا، ولكن عنوان بروتوكول الإنترنت للمستخدم الفعلي غير معروف)، وإذا كان معروفًا، تحديد تاريخ وتوقيت الاستخدام واسم مزود خدمة الإنترنت</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بالنسبة لبيانات الحركة الموسعة، تقديم معلومات عن الفترة المطلوبة، التي تم استخدام عنوان بروتوكول الإنترنت خلالها</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D68B9B-B35E-4EEF-90D3-698DA19A8D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1880"/>
            <a:ext cx="8578800" cy="6164280"/>
          </a:xfrm>
          <a:prstGeom prst="rect">
            <a:avLst/>
          </a:prstGeom>
          <a:noFill/>
          <a:ln w="0">
            <a:noFill/>
          </a:ln>
        </p:spPr>
        <p:txBody>
          <a:bodyPr anchor="t">
            <a:normAutofit fontScale="99000"/>
          </a:bodyPr>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ج. إجراء الخبرة</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علومات عن الخبرة المطلوبة</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قائمة الأسئلة التي يجب أن يجيب عليها الخبير</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ح. اعتراض الاتصالات</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أي معلومات ذات صلة عن وضع الشخص وعن الصلة بين التدبير والتحقيق الجاري المتعلق بالشروط والمتطلبات القانونية للدولة مقدمة الطلب</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 - معلومات عن الإطار الزمني</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خ. تقنيات التحقيقات الخاصة</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لاحظات عابرة للحدود: انظر الملحق </a:t>
            </a:r>
            <a:r>
              <a:rPr b="0" lang="ar-SY" sz="2000" spc="-1" strike="noStrike">
                <a:solidFill>
                  <a:srgbClr val="000000"/>
                </a:solidFill>
                <a:latin typeface="Sakkal Majalla"/>
                <a:ea typeface="Sakkal Majalla"/>
              </a:rPr>
              <a:t>1</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سليم المراقب: انظر الملحق </a:t>
            </a:r>
            <a:r>
              <a:rPr b="0" lang="ar-SY" sz="2000" spc="-1" strike="noStrike">
                <a:solidFill>
                  <a:srgbClr val="000000"/>
                </a:solidFill>
                <a:latin typeface="Sakkal Majalla"/>
                <a:ea typeface="Sakkal Majalla"/>
              </a:rPr>
              <a:t>2</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حقيقات السرية: انظر الملحق </a:t>
            </a:r>
            <a:r>
              <a:rPr b="0" lang="ar-SY" sz="2000" spc="-1" strike="noStrike">
                <a:solidFill>
                  <a:srgbClr val="000000"/>
                </a:solidFill>
                <a:latin typeface="Sakkal Majalla"/>
                <a:ea typeface="Sakkal Majalla"/>
              </a:rPr>
              <a:t>3</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فرق التحقيق المشتركة: انظر الملحق </a:t>
            </a:r>
            <a:r>
              <a:rPr b="0" lang="ar-SY" sz="2000" spc="-1" strike="noStrike">
                <a:solidFill>
                  <a:srgbClr val="000000"/>
                </a:solidFill>
                <a:latin typeface="Sakkal Majalla"/>
                <a:ea typeface="Sakkal Majalla"/>
              </a:rPr>
              <a:t>4</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02E71-B6E9-4D98-917E-A1072DC536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6000"/>
          </a:bodyPr>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ثالثا. طرق محددة للتنفيذ</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جراءات الشكلية والإجراءات الضرورية بموجب قانون الدولة مقدمة الطلب والمبادئ التوجيهي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حضور موظفين وغيرهم من الأشخاص المعنيين من الدولة مقدمة الطلب واسم وصفة هؤلاء الأشخاص</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طلب إجراء جلسة استماع / استجواب من قبل الموظفين...</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طار الزمني للتنفيذ</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تنسيق بين السلطات المختصة وذات الصلة (أشخاص الذين ينبغي الاتصال بهم)</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تكاليف (انظر الشرح في الإرشادات)</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لغة المستخدمة – تحديد الشروط والمتطلبات للحفاظ على سرية الطلب وموضوعه</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تحديد القواعد لضمان حماية البيانات</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رابعا. طرق إرسال الأدل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تحديد ما إذا كانت النسخ الأصلية مطلوب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وسائل الإرسال المفضلة التي يجب أن تستخدمها الدولة المطلوب منها المساعدة (البريد السريع، ضابط اتصال، ممثل دبلوماسي، إلخ.)</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نسخ مسبقة</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194FA-45EB-431A-9020-BBA09D4725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0000"/>
          </a:bodyPr>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باء - خدمة الوثائق القضائية (المذكرات والسجلات؛ استدعاء الحضور كشاهد/ خبير / متهم):</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ea typeface="Sakkal Majalla"/>
              </a:rPr>
              <a:t>  أولا. المعلومات المشتركة بين جميع طلبات الخدم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نوع الخدمة المطلوب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واصفات الوثائق التي يجب تقديمها</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علومات عن حماية الشهود</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قضايا المرر الآمن</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شروط تأكيد الخدم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تطلبات في حال تعذر الخدم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وافقة على تحمل التكاليف</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انيا. المعلومات المطلوبة للأمر بالحضور</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اريخ المثول/الاستدعاء</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وقيت ومكان جلسة الاستماع</a:t>
            </a: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تاريخ البديل للمثول، والتوقيت ومكان جلسة الاستماع</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بدلات التقديرية مستحقة الدفع ومصاريف السفر والإقامة القابلة للاسترداد</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تأشيرة أو متطلبات الدخول الأخرى</a:t>
            </a: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5FFF7-8F5D-4621-BA32-9AED3B92C4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a:bodyPr>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ت- النقل المؤقت لشخص محتجز</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نوع النقل: إلى الجهة مقدمة الطلب أو الدولة المطلوب منها المساعد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واعيد المقترحة للنقل والعود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كان النقل</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غرض من النقل (على سبيل المثال، كشاهد ، للمواجه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صريح موافقة الشخص المعني</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أكيد أن الشخص المعني سيبقى رهن الاحتجاز</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ما إذا كان العبور مطلوبًا</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شخص (الأشخاص) المسؤولون عن النقل</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 مستخلص من السجلات العدلي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الشخص الذي يطلب سجله العدلي</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حيثما ينطبق ذلك:  - تحديد ما إذا كان الطلب يتم في سياق غير إجرامي</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ea typeface="Sakkal Majalla"/>
              </a:rPr>
              <a:t>6</a:t>
            </a:r>
            <a:r>
              <a:rPr b="1" lang="ar-SY" sz="1600" spc="-1" strike="noStrike">
                <a:solidFill>
                  <a:srgbClr val="000000"/>
                </a:solidFill>
                <a:latin typeface="Sakkal Majalla"/>
                <a:ea typeface="Sakkal Majalla"/>
              </a:rPr>
              <a:t>. معلومات نهائي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أي معلومات أخرى تعتبرها الدولة مقدمة الطلب مهمة - الشخص المسؤول (الاسم، بيانات الاتصال، اللغة) - قائمة المرفقات</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ختم، والاسم، والوظيفة الرسمية، والتاريخ والتوقيع</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29C19-959A-420A-A764-5A52CD46F3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2280"/>
            <a:ext cx="8229600" cy="16732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جزء الأول</a:t>
            </a:r>
            <a:br>
              <a:rPr sz="4400"/>
            </a:br>
            <a:r>
              <a:rPr b="1" lang="ar-SY" sz="4400" spc="-1" strike="noStrike">
                <a:solidFill>
                  <a:srgbClr val="000000"/>
                </a:solidFill>
                <a:latin typeface="Sakkal Majalla"/>
                <a:cs typeface="Sakkal Majalla"/>
              </a:rPr>
              <a:t>المبادئ العامة للمساعدة القانونية المتبادلة</a:t>
            </a:r>
            <a:endParaRPr b="0" lang="en-US" sz="44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4A683C-9C8A-4D27-A06A-BF593389B7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تشمل المتطلبات المشتركة والمعتادة (في إطار معاهدة أو بدونها):</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سم، وظيفة، ختم وتوقيع السلطة مقدمة الطلب</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أساس القانوني للطلب (معاهدة / اتفاقية دولية، أو مبدأ المعاملة بالمثل)</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طار القانوني في الدولة مقدمة الطلب (اسم المشتبه بهم، والتصنيفات القانونية للجرائم والأحكام ذات الصلة، بما في ذلك العقوبات)</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لخص الوقائع</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دابير المحددة المطلوبة</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EDA9B-7ADD-46D9-904A-EFA61E29DB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2682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اس القانوني لطلب المساعدة القانونية المتبادلة</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6000"/>
          </a:bodyPr>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على غرار المعاهدات والاتفاقيات ثنائية أو متعددة الأطراف الأخرى، </a:t>
            </a:r>
            <a:r>
              <a:rPr b="1" lang="ar-SY" sz="2800" spc="-1" strike="noStrike">
                <a:solidFill>
                  <a:srgbClr val="000000"/>
                </a:solidFill>
                <a:latin typeface="Sakkal Majalla"/>
                <a:cs typeface="Sakkal Majalla"/>
              </a:rPr>
              <a:t>استخدام </a:t>
            </a:r>
            <a:r>
              <a:rPr b="1" lang="ar-SY" sz="2800" spc="-1" strike="noStrike" u="sng">
                <a:solidFill>
                  <a:srgbClr val="000000"/>
                </a:solidFill>
                <a:uFillTx/>
                <a:latin typeface="Sakkal Majalla"/>
                <a:cs typeface="Sakkal Majalla"/>
              </a:rPr>
              <a:t>اتفاقية بودابست </a:t>
            </a:r>
            <a:r>
              <a:rPr b="1" lang="ar-SY" sz="2800" spc="-1" strike="noStrike">
                <a:solidFill>
                  <a:srgbClr val="000000"/>
                </a:solidFill>
                <a:latin typeface="Sakkal Majalla"/>
                <a:cs typeface="Sakkal Majalla"/>
              </a:rPr>
              <a:t>كأساس قانوني لطلبات المساعدة القانونية المتبادلة فيما يتعلق بالجرائم الإلكترونية وكذلك لجمع الأدلة في أي قضية جنائية</a:t>
            </a:r>
            <a:endParaRPr b="0" lang="en-US" sz="2800" spc="-1" strike="noStrike">
              <a:solidFill>
                <a:srgbClr val="000000"/>
              </a:solidFill>
              <a:latin typeface="Calibri"/>
            </a:endParaRPr>
          </a:p>
          <a:p>
            <a:pPr marL="329040" indent="-329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مادة </a:t>
            </a:r>
            <a:r>
              <a:rPr b="1" lang="ar-SY" sz="2400" spc="-1" strike="noStrike">
                <a:solidFill>
                  <a:srgbClr val="000000"/>
                </a:solidFill>
                <a:latin typeface="Sakkal Majalla"/>
                <a:ea typeface="Sakkal Majalla"/>
              </a:rPr>
              <a:t>1.27</a:t>
            </a:r>
            <a:r>
              <a:rPr b="1" lang="ar-SY" sz="2400" spc="-1" strike="noStrike">
                <a:solidFill>
                  <a:srgbClr val="000000"/>
                </a:solidFill>
                <a:latin typeface="Sakkal Majalla"/>
                <a:ea typeface="Sakkal Majalla"/>
              </a:rPr>
              <a:t> من اتفاقية بودابست:</a:t>
            </a:r>
            <a:endParaRPr b="0" lang="en-US" sz="2400" spc="-1" strike="noStrike">
              <a:solidFill>
                <a:srgbClr val="000000"/>
              </a:solidFill>
              <a:latin typeface="Calibri"/>
            </a:endParaRPr>
          </a:p>
          <a:p>
            <a:pPr marL="329040" indent="-32904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cs typeface="Sakkal Majalla"/>
              </a:rPr>
              <a:t>في حالة عدم وجود أي معاهدة أو ترتيب بشأن المساعدة المتبادلة على أساس تشريع موحد ومتعلق بمبدأ المعاملة بالمثل بين الدولة الطرف المقدمة للطلب والدولة الطرف المطلوب منها، تطبق أحكام الفقرات من </a:t>
            </a:r>
            <a:r>
              <a:rPr b="0" lang="ar-EG" sz="2000" spc="-1" strike="noStrike">
                <a:solidFill>
                  <a:srgbClr val="000000"/>
                </a:solidFill>
                <a:latin typeface="Sakkal Majalla"/>
                <a:ea typeface="Sakkal Majalla"/>
              </a:rPr>
              <a:t>2</a:t>
            </a:r>
            <a:r>
              <a:rPr b="0" lang="ar-EG" sz="2000" spc="-1" strike="noStrike">
                <a:solidFill>
                  <a:srgbClr val="000000"/>
                </a:solidFill>
                <a:latin typeface="Sakkal Majalla"/>
                <a:ea typeface="Sakkal Majalla"/>
              </a:rPr>
              <a:t> إلى </a:t>
            </a:r>
            <a:r>
              <a:rPr b="0" lang="ar-EG" sz="2000" spc="-1" strike="noStrike">
                <a:solidFill>
                  <a:srgbClr val="000000"/>
                </a:solidFill>
                <a:latin typeface="Sakkal Majalla"/>
                <a:ea typeface="Sakkal Majalla"/>
              </a:rPr>
              <a:t>9</a:t>
            </a:r>
            <a:r>
              <a:rPr b="0" lang="ar-EG" sz="2000" spc="-1" strike="noStrike">
                <a:solidFill>
                  <a:srgbClr val="000000"/>
                </a:solidFill>
                <a:latin typeface="Sakkal Majalla"/>
                <a:ea typeface="Sakkal Majalla"/>
              </a:rPr>
              <a:t> من هذه المادة. ولا تطبق أحكام هذه المادة في حال وجود معاهدة أو ترتيب أو تشريع من هذا القبيل، ما لم توافق الأطراف المعنية على تطبيق أي أو كل البنود الباقية من هذه المادة بدلا منها.</a:t>
            </a:r>
            <a:endParaRPr b="0" lang="en-US" sz="20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CD674C1-4A5E-4780-9321-360684F820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واصل مهم بقدر أهمية الطلب في حد ذاته:</a:t>
            </a:r>
            <a:r>
              <a:rPr b="1" lang="en-US" sz="4400" spc="-1" strike="noStrike">
                <a:solidFill>
                  <a:srgbClr val="000000"/>
                </a:solidFill>
                <a:latin typeface="Sakkal Majalla"/>
                <a:ea typeface="Sakkal Majalla"/>
              </a:rPr>
              <a:t> </a:t>
            </a: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حديد الاسم والمنصب </a:t>
            </a:r>
            <a:r>
              <a:rPr b="0" lang="ar-SY" sz="2400" spc="-1" strike="noStrike" u="sng">
                <a:solidFill>
                  <a:srgbClr val="000000"/>
                </a:solidFill>
                <a:uFillTx/>
                <a:latin typeface="Sakkal Majalla"/>
                <a:cs typeface="Sakkal Majalla"/>
              </a:rPr>
              <a:t>بشكل واضح </a:t>
            </a:r>
            <a:r>
              <a:rPr b="0" lang="ar-SY" sz="2400" spc="-1" strike="noStrike">
                <a:solidFill>
                  <a:srgbClr val="000000"/>
                </a:solidFill>
                <a:latin typeface="Sakkal Majalla"/>
                <a:ea typeface="Sakkal Majalla"/>
              </a:rPr>
              <a:t>(ليس فقط توقيعك وختمك)</a:t>
            </a:r>
            <a:endParaRPr b="0" lang="en-US" sz="2400" spc="-1" strike="noStrike">
              <a:solidFill>
                <a:srgbClr val="000000"/>
              </a:solidFill>
              <a:latin typeface="Calibri"/>
            </a:endParaRPr>
          </a:p>
          <a:p>
            <a:pPr marL="343080" indent="-3430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بيانات الاتصال (عنوان البريد الإلكتروني ورقم الهاتف والمنطقة الزمنية ...)</a:t>
            </a:r>
            <a:endParaRPr b="0" lang="en-US" sz="2400" spc="-1" strike="noStrike">
              <a:solidFill>
                <a:srgbClr val="000000"/>
              </a:solidFill>
              <a:latin typeface="Calibri"/>
            </a:endParaRPr>
          </a:p>
          <a:p>
            <a:pPr marL="343080" indent="-3430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اللغات المتحدث بها</a:t>
            </a:r>
            <a:endParaRPr b="0" lang="en-US" sz="2400" spc="-1" strike="noStrike">
              <a:solidFill>
                <a:srgbClr val="000000"/>
              </a:solidFill>
              <a:latin typeface="Calibri"/>
            </a:endParaRPr>
          </a:p>
          <a:p>
            <a:pPr marL="343080" indent="-34308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Wingdings"/>
                <a:ea typeface="Wingdings"/>
              </a:rPr>
              <a:t></a:t>
            </a:r>
            <a:r>
              <a:rPr b="0" lang="ar-SY" sz="2400" spc="-1" strike="noStrike">
                <a:solidFill>
                  <a:srgbClr val="000000"/>
                </a:solidFill>
                <a:latin typeface="Sakkal Majalla"/>
                <a:cs typeface="Sakkal Majalla"/>
              </a:rPr>
              <a:t>إذا كان لدى السلطة المنفذة سؤال أو مشكلة، ولم تفهم انتظاراتك، يمكنك تقديم إجابة واضحة وسريعة، مع تجنب صياغة طلب جديد كليًا للمساعدة القانونية المتبادلة</a:t>
            </a: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8BBBF14-1CF3-4794-AE33-20324672B9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لخص الوقائع</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ينبغي دائما تذكر أن السلطة المطلوبة لا تعرف قضيتك أثناء شرح الوقائع والتحقيقات المطلوبة</a:t>
            </a:r>
            <a:endParaRPr b="0" lang="en-US" sz="2000" spc="-1" strike="noStrike">
              <a:solidFill>
                <a:srgbClr val="000000"/>
              </a:solidFill>
              <a:latin typeface="Calibri"/>
            </a:endParaRPr>
          </a:p>
          <a:p>
            <a:pPr marL="343080" indent="-34308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لا تكتب أبداً بطريقة قاطعة (مثلا "تحقيقات تحديد هوية السيد </a:t>
            </a:r>
            <a:r>
              <a:rPr b="0" lang="fr-FR" sz="2000" spc="-1" strike="noStrike">
                <a:solidFill>
                  <a:srgbClr val="000000"/>
                </a:solidFill>
                <a:latin typeface="Sakkal Majalla"/>
                <a:ea typeface="Sakkal Majalla"/>
              </a:rPr>
              <a:t>"</a:t>
            </a:r>
            <a:r>
              <a:rPr b="0" lang="fr-FR" sz="2000" spc="-1" strike="noStrike">
                <a:solidFill>
                  <a:srgbClr val="000000"/>
                </a:solidFill>
                <a:latin typeface="Sakkal Majalla"/>
                <a:ea typeface="Sakkal Majalla"/>
              </a:rPr>
              <a:t>X</a:t>
            </a:r>
            <a:r>
              <a:rPr b="0" lang="fr-FR" sz="2000" spc="-1" strike="noStrike">
                <a:solidFill>
                  <a:srgbClr val="000000"/>
                </a:solidFill>
                <a:latin typeface="Sakkal Majalla"/>
                <a:ea typeface="Sakkal Majalla"/>
              </a:rPr>
              <a:t> </a:t>
            </a:r>
            <a:r>
              <a:rPr b="0" lang="ar-SY" sz="2000" spc="-1" strike="noStrike">
                <a:solidFill>
                  <a:srgbClr val="000000"/>
                </a:solidFill>
                <a:latin typeface="Sakkal Majalla"/>
                <a:ea typeface="Sakkal Majalla"/>
              </a:rPr>
              <a:t>: اشرح).</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ستقوم بعض الدول بسهولة بتنفيذ كل ما تطلبه</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بل إن بعض الدول ستقوم بإجراء تحقق جنائي مزدوج لأنواع معينة من التحقيقات (أو التحقق من انطباق أي معاهدة / اتفاقية)</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ستقتضي بعض الدول تقديم عناصر تكميلية من أجل اتخاذ تدابير قسرية (على سبيل المثال، السبب المحتمل في الولايات المتحدة ، الشهادة في هونغ كونغ)</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30B797-57C1-4793-A0EF-1B9D379CCD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10252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تطالب بعض الدول بمعلومات محددة بشأن المضمون:</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مثال عن معيار «السبب المحتمل» في الولايات المتحدة الأمريكية:</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r>
              <a:rPr b="1" lang="ar-SY" sz="2000" spc="-1" strike="noStrike">
                <a:solidFill>
                  <a:srgbClr val="000000"/>
                </a:solidFill>
                <a:latin typeface="Sakkal Majalla"/>
                <a:cs typeface="Sakkal Majalla"/>
              </a:rPr>
              <a:t>الأساس المعقول </a:t>
            </a:r>
            <a:r>
              <a:rPr b="0" lang="ar-SY" sz="2000" spc="-1" strike="noStrike">
                <a:solidFill>
                  <a:srgbClr val="000000"/>
                </a:solidFill>
                <a:latin typeface="Sakkal Majalla"/>
                <a:cs typeface="Sakkal Majalla"/>
              </a:rPr>
              <a:t>للاشتباه بأن </a:t>
            </a:r>
            <a:r>
              <a:rPr b="1" lang="ar-SY" sz="2000" spc="-1" strike="noStrike" u="sng">
                <a:solidFill>
                  <a:srgbClr val="000000"/>
                </a:solidFill>
                <a:uFillTx/>
                <a:latin typeface="Sakkal Majalla"/>
                <a:cs typeface="Sakkal Majalla"/>
              </a:rPr>
              <a:t>شخصا ارتكب جريمة أو  بصدد ارتكابها أو أن مكانا يتضمن عناصر محددة مرتبطة بجريمة</a:t>
            </a:r>
            <a:r>
              <a:rPr b="0" lang="ar-SY" sz="2000" spc="-1" strike="noStrike">
                <a:solidFill>
                  <a:srgbClr val="000000"/>
                </a:solidFill>
                <a:latin typeface="Sakkal Majalla"/>
                <a:ea typeface="Sakkal Majalla"/>
              </a:rPr>
              <a:t>» (المعجم القانوني لبلاك)</a:t>
            </a: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يجب</a:t>
            </a:r>
            <a:r>
              <a:rPr b="1" lang="ar-SY" sz="2000" spc="-1" strike="noStrike">
                <a:solidFill>
                  <a:srgbClr val="000000"/>
                </a:solidFill>
                <a:latin typeface="Sakkal Majalla"/>
                <a:ea typeface="Sakkal Majalla"/>
              </a:rPr>
              <a:t> أن يتضمن طلب المساعدة القانونية المتبادلة المعلومات التالية:</a:t>
            </a: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نوع البيانات المطلوب مصادرتها</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سبب ارتباطه بالجريمة التي يجري التحقيق فيها (العلاقة بين الجاني المزعوم والجريمة)</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ن المحتمل أن توجد البيانات في الوقت الحالي حيث سيتم إجراء البحث (لا تنسى ذكر أي طلب سابق بحفظ البيانات تم إعداده بموجب اتفاقية بودابست!)</a:t>
            </a: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1842C-D666-42A3-A013-6053D089DC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925560">
                <a:tc>
                  <a:txBody>
                    <a:bodyPr lIns="90000" rIns="90000" tIns="46800" bIns="46800" anchor="t">
                      <a:noAutofit/>
                    </a:bodyPr>
                    <a:p>
                      <a:pPr algn="ct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ar-SY" sz="1800" spc="-1" strike="noStrike">
                          <a:solidFill>
                            <a:srgbClr val="0d0d0d"/>
                          </a:solidFill>
                          <a:latin typeface="Sakkal Majalla"/>
                          <a:cs typeface="Sakkal Majalla"/>
                        </a:rPr>
                        <a:t>نوع البيانات المطلوب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ar-SY" sz="1800" spc="-1" strike="noStrike">
                          <a:solidFill>
                            <a:srgbClr val="0d0d0d"/>
                          </a:solidFill>
                          <a:latin typeface="Sakkal Majalla"/>
                          <a:cs typeface="Sakkal Majalla"/>
                        </a:rPr>
                        <a:t>المعيار القانوني الأمريك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1044720">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معلومات عن المشتر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ea typeface="Sakkal Majalla"/>
                        </a:rPr>
                        <a:t>«الصلة» و «العلاقة» بين الأدلة المطلوبة والتحقيق الجنائ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044360">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معلومات عن المعامل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بين «الصلة» و «السبب المحتمل»: يجب أن تكون البيانات ذات صلة ومادية بالنسبة للتحقيق الجنائ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041480">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المحتوى</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ea typeface="Sakkal Majalla"/>
                        </a:rPr>
                        <a:t>«السبب المحتم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معايير القانونية الأمريكية التي يجب استيفاؤها في ملخص الوقائع:</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ABA12-C369-421F-8A10-4BD54295D2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تدابير المطلوبة في طلب المساعدة القانونية المتبادلة</a:t>
            </a:r>
            <a:endParaRPr b="0" lang="en-US" sz="36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92000"/>
          </a:bodyPr>
          <a:p>
            <a:pPr marL="315360" indent="-31536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طلبوا جميع التدابير التي يمكن طلبها في نظامكم القانوني والتي تبدو مفيدة لقضيتكم الجنائية</a:t>
            </a: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حددوا إذا كانت السرية مطلوبة: ليس مبدأ في جميع الدول </a:t>
            </a:r>
            <a:r>
              <a:rPr b="0" lang="ar-SY" sz="1600" spc="-1" strike="noStrike">
                <a:solidFill>
                  <a:srgbClr val="000000"/>
                </a:solidFill>
                <a:latin typeface="Sakkal Majalla"/>
                <a:ea typeface="Sakkal Majalla"/>
              </a:rPr>
              <a:t>(على سبيل المثال: الولايات المتحدة الأمريكية) - ملحوظة: المادة </a:t>
            </a:r>
            <a:r>
              <a:rPr b="0" lang="ar-SY" sz="1600" spc="-1" strike="noStrike">
                <a:solidFill>
                  <a:srgbClr val="000000"/>
                </a:solidFill>
                <a:latin typeface="Sakkal Majalla"/>
                <a:ea typeface="Sakkal Majalla"/>
              </a:rPr>
              <a:t>28</a:t>
            </a:r>
            <a:r>
              <a:rPr b="0" lang="ar-SY" sz="1600" spc="-1" strike="noStrike">
                <a:solidFill>
                  <a:srgbClr val="000000"/>
                </a:solidFill>
                <a:latin typeface="Sakkal Majalla"/>
                <a:ea typeface="Sakkal Majalla"/>
              </a:rPr>
              <a:t> من اتفاقية بودابست</a:t>
            </a:r>
            <a:endParaRPr b="0" lang="en-US" sz="16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حددوا أي استعجال </a:t>
            </a:r>
            <a:r>
              <a:rPr b="0" lang="ar-SY" sz="2400" spc="-1" strike="noStrike">
                <a:solidFill>
                  <a:srgbClr val="000000"/>
                </a:solidFill>
                <a:latin typeface="Sakkal Majalla"/>
                <a:ea typeface="Sakkal Majalla"/>
              </a:rPr>
              <a:t>(مثل: احتجاز سابق للمحاكمة، والآجال المحددة ...)</a:t>
            </a: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توخوا الدقة قدر  الإمكان</a:t>
            </a:r>
            <a:endParaRPr b="0" lang="en-US" sz="2400" spc="-1" strike="noStrike">
              <a:solidFill>
                <a:srgbClr val="000000"/>
              </a:solidFill>
              <a:latin typeface="Calibri"/>
            </a:endParaRPr>
          </a:p>
          <a:p>
            <a:pPr marL="315360" indent="-315360" algn="r"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لى سبيل المثال : حددوا المكان المراد تفتيشه، والبيانات المطلوبة، وتواريخ وتوقيت عنوان بروتوكول الإنترنت المراد تحديده (ختم التاريخ والتوقيت)</a:t>
            </a:r>
            <a:endParaRPr b="0" lang="en-US" sz="1600" spc="-1" strike="noStrike">
              <a:solidFill>
                <a:srgbClr val="000000"/>
              </a:solidFill>
              <a:latin typeface="Calibri"/>
            </a:endParaRPr>
          </a:p>
          <a:p>
            <a:pPr marL="315360" indent="-31536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حددوا أي إجراء معين </a:t>
            </a:r>
            <a:r>
              <a:rPr b="0" lang="ar-SY" sz="2400" spc="-1" strike="noStrike">
                <a:solidFill>
                  <a:srgbClr val="000000"/>
                </a:solidFill>
                <a:latin typeface="Sakkal Majalla"/>
                <a:cs typeface="Sakkal Majalla"/>
              </a:rPr>
              <a:t>ينبغي تنفيذه من أجل انتظام التدبير المطلوب </a:t>
            </a:r>
            <a:r>
              <a:rPr b="0" lang="fr-FR" sz="2400" spc="-1" strike="noStrike">
                <a:solidFill>
                  <a:srgbClr val="000000"/>
                </a:solidFill>
                <a:latin typeface="Sakkal Majalla"/>
                <a:ea typeface="Sakkal Majalla"/>
              </a:rPr>
              <a:t>-</a:t>
            </a:r>
            <a:r>
              <a:rPr b="0" lang="ar-SY" sz="2400" spc="-1" strike="noStrike">
                <a:solidFill>
                  <a:srgbClr val="000000"/>
                </a:solidFill>
                <a:latin typeface="Sakkal Majalla"/>
                <a:ea typeface="Sakkal Majalla"/>
              </a:rPr>
              <a:t> وإلا ستقوم الدولة المطلوب منها المساعدة بتنفيذ المساعدة القانونية المتبادلة وفقا لقانونها الوطني</a:t>
            </a:r>
            <a:endParaRPr b="0" lang="en-US" sz="2400" spc="-1" strike="noStrike">
              <a:solidFill>
                <a:srgbClr val="000000"/>
              </a:solidFill>
              <a:latin typeface="Calibri"/>
            </a:endParaRPr>
          </a:p>
          <a:p>
            <a:pPr marL="315360" indent="-315360" algn="r"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ثلا : الشاهد لأداء قسَم معين، ونوع النسخ والحماية المطلوبة للبيانات الإلكترونية أو الجهاز)</a:t>
            </a:r>
            <a:r>
              <a:rPr b="0" lang="fr-FR" sz="2000" spc="-1" strike="noStrike">
                <a:solidFill>
                  <a:srgbClr val="000000"/>
                </a:solidFill>
                <a:latin typeface="Sakkal Majalla"/>
                <a:ea typeface="Sakkal Majalla"/>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91E07C9-ECC3-408C-A75E-43638C63C0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7640"/>
            <a:ext cx="8842320" cy="927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ما ينبغي/يمكن إرفاقه بطلب المساعدة القانونية المتبادلة:</a:t>
            </a:r>
            <a:endParaRPr b="0" lang="en-US" sz="36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fontScale="90000"/>
          </a:bodyPr>
          <a:p>
            <a:pPr marL="308520" indent="-30852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ما </a:t>
            </a:r>
            <a:r>
              <a:rPr b="1" lang="ar-SY" sz="2400" spc="-1" strike="noStrike" u="sng">
                <a:solidFill>
                  <a:srgbClr val="000000"/>
                </a:solidFill>
                <a:uFillTx/>
                <a:latin typeface="Sakkal Majalla"/>
                <a:cs typeface="Sakkal Majalla"/>
              </a:rPr>
              <a:t>ينبغي</a:t>
            </a:r>
            <a:r>
              <a:rPr b="1" lang="ar-SY" sz="2400" spc="-1" strike="noStrike">
                <a:solidFill>
                  <a:srgbClr val="000000"/>
                </a:solidFill>
                <a:latin typeface="Sakkal Majalla"/>
                <a:ea typeface="Sakkal Majalla"/>
              </a:rPr>
              <a:t> إرفاقه:</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ي شيء تشترطه الاتفاقية أو المعاهدة سارية التطبيق (بما في ذلك، بشكل عام هوية ووظيفة السلطة مقدمة الطلب، وملخص الوقائع، والتوصيفات القانونية، والأحكام القانونية، والأحكام المتعلقة بالعقوبة المفروضة)،</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قتضي الاتفاقيات أو المعاهدات أحيانًا تقديم قائمة بالأسئلة للمقابلات</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الترجمة عند الحاجة (بما في ذلك، ترجمة الوثائق والأحكام المرفقة)</a:t>
            </a:r>
            <a:endParaRPr b="0" lang="en-US" sz="2400" spc="-1" strike="noStrike">
              <a:solidFill>
                <a:srgbClr val="000000"/>
              </a:solidFill>
              <a:latin typeface="Calibri"/>
            </a:endParaRPr>
          </a:p>
          <a:p>
            <a:pPr marL="308520" indent="-3085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ما </a:t>
            </a:r>
            <a:r>
              <a:rPr b="1" lang="ar-SY" sz="2400" spc="-1" strike="noStrike" u="sng">
                <a:solidFill>
                  <a:srgbClr val="000000"/>
                </a:solidFill>
                <a:uFillTx/>
                <a:latin typeface="Sakkal Majalla"/>
                <a:cs typeface="Sakkal Majalla"/>
              </a:rPr>
              <a:t>يمكن</a:t>
            </a:r>
            <a:r>
              <a:rPr b="1" lang="ar-SY" sz="2400" spc="-1" strike="noStrike">
                <a:solidFill>
                  <a:srgbClr val="000000"/>
                </a:solidFill>
                <a:latin typeface="Sakkal Majalla"/>
                <a:ea typeface="Sakkal Majalla"/>
              </a:rPr>
              <a:t> إرفاقه:</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ي شيء مفيد للسلطة المطلوبة منها المساعدة لفهم ما هو مطلوب (على سبيل المثال، نسخ من الأوامر البنكية المزيفة، والمقابلات، ورسائل البريد الإلكتروني المشبوهة...)</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الأمر المحلي بإبراز البيانات أو أمر البحث إن وجد (غير مطلوب دائمًا)</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حكام القانون المحلي فيما يتعلق بسلطات محددة (مثلا لا يكون قاضي التحقيق معروفًا دائمًا في بعض البلدان)</a:t>
            </a:r>
            <a:endParaRPr b="0" lang="en-US" sz="24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5C9A26-54F2-45DA-AA0B-4B8C2E8B15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طرق سريعة لإرسال طلب المساعدة القانونية المتبادلة:</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حتى عندما يكون الطلب الأصلي ضروريًا، فإن معظم الاتفاقيات أو المعاهدات تنص على إجراء محدد لإرسال المسائل العاجلة.</a:t>
            </a:r>
            <a:endParaRPr b="0" lang="en-US" sz="2800" spc="-1" strike="noStrike">
              <a:solidFill>
                <a:srgbClr val="000000"/>
              </a:solidFill>
              <a:latin typeface="Calibri"/>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مثل إحدى الممارسات الجيدة الشائعة خاصةً لجمع الأدلة الإلكترونية في استخدام نسخ مسبقة ترسل عن طريق البريد الإلكتروني، مباشرة بين السلطات القضائية أو بين السلطات المركزية</a:t>
            </a:r>
            <a:endParaRPr b="0" lang="en-US" sz="2800" spc="-1" strike="noStrike">
              <a:solidFill>
                <a:srgbClr val="000000"/>
              </a:solidFill>
              <a:latin typeface="Calibri"/>
            </a:endParaRPr>
          </a:p>
          <a:p>
            <a:pPr marL="343080" indent="-34308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المادة </a:t>
            </a:r>
            <a:r>
              <a:rPr b="0" lang="ar-SY" sz="2800" spc="-1" strike="noStrike">
                <a:solidFill>
                  <a:srgbClr val="000000"/>
                </a:solidFill>
                <a:latin typeface="Sakkal Majalla"/>
                <a:ea typeface="Sakkal Majalla"/>
              </a:rPr>
              <a:t>3.25</a:t>
            </a:r>
            <a:r>
              <a:rPr b="0" lang="ar-SY" sz="2800" spc="-1" strike="noStrike">
                <a:solidFill>
                  <a:srgbClr val="000000"/>
                </a:solidFill>
                <a:latin typeface="Sakkal Majalla"/>
                <a:ea typeface="Sakkal Majalla"/>
              </a:rPr>
              <a:t> من اتفاقية بودابست</a:t>
            </a:r>
            <a:endParaRPr b="0" lang="en-US" sz="2800" spc="-1" strike="noStrike">
              <a:solidFill>
                <a:srgbClr val="000000"/>
              </a:solidFill>
              <a:latin typeface="Calibri"/>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67671A6-E806-4A8E-8CA5-9332C603FE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ادة </a:t>
            </a:r>
            <a:r>
              <a:rPr b="1" lang="ar-SY" sz="4400" spc="-1" strike="noStrike">
                <a:solidFill>
                  <a:srgbClr val="000000"/>
                </a:solidFill>
                <a:latin typeface="Sakkal Majalla"/>
                <a:ea typeface="Sakkal Majalla"/>
              </a:rPr>
              <a:t>3.25</a:t>
            </a:r>
            <a:r>
              <a:rPr b="1" lang="ar-SY" sz="4400" spc="-1" strike="noStrike">
                <a:solidFill>
                  <a:srgbClr val="000000"/>
                </a:solidFill>
                <a:latin typeface="Sakkal Majalla"/>
                <a:ea typeface="Sakkal Majalla"/>
              </a:rPr>
              <a:t> من اتفاقية بودابست</a:t>
            </a:r>
            <a:endParaRPr b="0" lang="en-US" sz="4400" spc="-1" strike="noStrike">
              <a:solidFill>
                <a:srgbClr val="000000"/>
              </a:solidFill>
              <a:latin typeface="Calibri"/>
            </a:endParaRPr>
          </a:p>
        </p:txBody>
      </p:sp>
      <p:sp>
        <p:nvSpPr>
          <p:cNvPr id="182" name=""/>
          <p:cNvSpPr txBox="1"/>
          <p:nvPr/>
        </p:nvSpPr>
        <p:spPr>
          <a:xfrm>
            <a:off x="366840" y="1762200"/>
            <a:ext cx="8229600" cy="4860720"/>
          </a:xfrm>
          <a:prstGeom prst="rect">
            <a:avLst/>
          </a:prstGeom>
          <a:noFill/>
          <a:ln w="0">
            <a:noFill/>
          </a:ln>
        </p:spPr>
        <p:txBody>
          <a:bodyPr anchor="t">
            <a:normAutofit/>
          </a:bodyPr>
          <a:p>
            <a:pPr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400" spc="-1" strike="noStrike">
                <a:solidFill>
                  <a:srgbClr val="000000"/>
                </a:solidFill>
                <a:latin typeface="Sakkal Majalla"/>
                <a:cs typeface="Sakkal Majalla"/>
              </a:rPr>
              <a:t>يجوز لكل دولة طرف، في الظروف العاجلة، المطالبة بالمساعدة المتبادلة أو بوثائق عن طريق وسائل الاتصال العاجلة، بما في ذلك الفاكس أو البريد الإلكتروني، بقدر ما توفره تلك الوسائل من مستويات ملائمة للأمن والتحقق من صحة البيانات (بما في ذلك استخدام التشفير عند الضرورة) مع التأكيد الرسمي بتطبيق تلك الوسائل عندما تطالب بذلك الدولة الطرف المطلوب منه تقديم المساعدة. وتقبل الدولة الطرف المطلوب منها تقديم المساعدة وتستجيب للطلب بأي من وسائل الاتصال العاجلة.</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91E4E-DEDE-4EAE-B6FD-716977D4C2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ا هو تعريف المساعدة القانونية القضائية الدولية؟</a:t>
            </a:r>
            <a:endParaRPr b="0" lang="en-US" sz="5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fontScale="81000"/>
          </a:bodyPr>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لا يوجد تعريف دولي موحد</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رتبط التعريف بالإطار القانوني لطل بلد</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تمييزها عن التعاون بين مصالح الشرطة، وإن كان مكملا </a:t>
            </a:r>
            <a:endParaRPr b="0" lang="en-US" sz="3200" spc="-1" strike="noStrike">
              <a:solidFill>
                <a:srgbClr val="000000"/>
              </a:solidFill>
              <a:latin typeface="Calibri"/>
            </a:endParaRPr>
          </a:p>
          <a:p>
            <a:pPr marL="277560" indent="-27756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77560" indent="-277560" algn="ct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يمكن تعريفها باعتبارها أي وسيلة قانونية ترمي إلى الوصول إلى شخص، معلومة، وثيقة أو أي عنصر إثبات ضروري بالنسبة لقضية قضائية والذي لا يكون في المتناول نظرا لتواجده في بلد آخر، تحت سلطة  دولة أخرى.</a:t>
            </a: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A655FFF-29CC-4409-ABF9-B398794318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49F6A-957A-4E1C-8D1A-0C9B9B3667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6"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468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تلقي طلب المساعدة القانونية المتبادلة</a:t>
            </a:r>
            <a:endParaRPr b="0" lang="en-US" sz="54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9F4087-634E-46FF-BC78-36D1DFFDB0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477720"/>
            <a:ext cx="8580600" cy="20606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مارسة الفضلى عند تلقي طلب المساعدة القانونية المتبادلة من أجل التنفيذ:</a:t>
            </a:r>
            <a:br>
              <a:rPr sz="4400"/>
            </a:br>
            <a:r>
              <a:rPr b="1" lang="ar-SY" sz="4400" spc="-1" strike="noStrike">
                <a:solidFill>
                  <a:srgbClr val="000000"/>
                </a:solidFill>
                <a:latin typeface="Sakkal Majalla"/>
                <a:cs typeface="Sakkal Majalla"/>
              </a:rPr>
              <a:t>الاقرار بالاستلام</a:t>
            </a:r>
            <a:endParaRPr b="0" lang="en-US" sz="4400" spc="-1" strike="noStrike">
              <a:solidFill>
                <a:srgbClr val="000000"/>
              </a:solidFill>
              <a:latin typeface="Calibri"/>
            </a:endParaRPr>
          </a:p>
        </p:txBody>
      </p:sp>
      <p:sp>
        <p:nvSpPr>
          <p:cNvPr id="191" name=""/>
          <p:cNvSpPr txBox="1"/>
          <p:nvPr/>
        </p:nvSpPr>
        <p:spPr>
          <a:xfrm>
            <a:off x="456840" y="2538360"/>
            <a:ext cx="8348760" cy="3975120"/>
          </a:xfrm>
          <a:prstGeom prst="rect">
            <a:avLst/>
          </a:prstGeom>
          <a:noFill/>
          <a:ln w="0">
            <a:noFill/>
          </a:ln>
        </p:spPr>
        <p:txBody>
          <a:bodyPr anchor="t">
            <a:normAutofit fontScale="96000"/>
          </a:bodyPr>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حتى إ</a:t>
            </a:r>
            <a:r>
              <a:rPr b="0" lang="ar-SY" sz="3200" spc="-1" strike="noStrike">
                <a:solidFill>
                  <a:srgbClr val="000000"/>
                </a:solidFill>
                <a:latin typeface="Sakkal Majalla"/>
                <a:cs typeface="Sakkal Majalla"/>
              </a:rPr>
              <a:t>ن</a:t>
            </a:r>
            <a:r>
              <a:rPr b="0" lang="ar-YE" sz="3200" spc="-1" strike="noStrike">
                <a:solidFill>
                  <a:srgbClr val="000000"/>
                </a:solidFill>
                <a:latin typeface="Sakkal Majalla"/>
                <a:ea typeface="Sakkal Majalla"/>
              </a:rPr>
              <a:t> لم يكن ذلك مطلوبًا بموجب القانون الوطني، </a:t>
            </a:r>
            <a:r>
              <a:rPr b="0" lang="ar-SY" sz="3200" spc="-1" strike="noStrike">
                <a:solidFill>
                  <a:srgbClr val="000000"/>
                </a:solidFill>
                <a:latin typeface="Sakkal Majalla"/>
                <a:cs typeface="Sakkal Majalla"/>
              </a:rPr>
              <a:t>تقتضي </a:t>
            </a:r>
            <a:r>
              <a:rPr b="0" lang="ar-YE" sz="3200" spc="-1" strike="noStrike">
                <a:solidFill>
                  <a:srgbClr val="000000"/>
                </a:solidFill>
                <a:latin typeface="Sakkal Majalla"/>
                <a:cs typeface="Sakkal Majalla"/>
              </a:rPr>
              <a:t>الممارسة الجيدة </a:t>
            </a:r>
            <a:r>
              <a:rPr b="0" lang="ar-SY" sz="3200" spc="-1" strike="noStrike">
                <a:solidFill>
                  <a:srgbClr val="000000"/>
                </a:solidFill>
                <a:latin typeface="Sakkal Majalla"/>
                <a:cs typeface="Sakkal Majalla"/>
              </a:rPr>
              <a:t>إحاطة </a:t>
            </a:r>
            <a:r>
              <a:rPr b="0" lang="ar-YE" sz="3200" spc="-1" strike="noStrike">
                <a:solidFill>
                  <a:srgbClr val="000000"/>
                </a:solidFill>
                <a:latin typeface="Sakkal Majalla"/>
                <a:cs typeface="Sakkal Majalla"/>
              </a:rPr>
              <a:t>السلطة </a:t>
            </a:r>
            <a:r>
              <a:rPr b="0" lang="ar-SY" sz="3200" spc="-1" strike="noStrike">
                <a:solidFill>
                  <a:srgbClr val="000000"/>
                </a:solidFill>
                <a:latin typeface="Sakkal Majalla"/>
                <a:cs typeface="Sakkal Majalla"/>
              </a:rPr>
              <a:t>مقدمة ال</a:t>
            </a:r>
            <a:r>
              <a:rPr b="0" lang="ar-YE" sz="3200" spc="-1" strike="noStrike">
                <a:solidFill>
                  <a:srgbClr val="000000"/>
                </a:solidFill>
                <a:latin typeface="Sakkal Majalla"/>
                <a:cs typeface="Sakkal Majalla"/>
              </a:rPr>
              <a:t>طلب علم</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بأنك ستكون مسؤولاً عن التنفيذ (</a:t>
            </a:r>
            <a:r>
              <a:rPr b="0" lang="ar-SY" sz="3200" spc="-1" strike="noStrike">
                <a:solidFill>
                  <a:srgbClr val="000000"/>
                </a:solidFill>
                <a:latin typeface="Sakkal Majalla"/>
                <a:cs typeface="Sakkal Majalla"/>
              </a:rPr>
              <a:t>مثلا</a:t>
            </a:r>
            <a:r>
              <a:rPr b="0" lang="ar-YE" sz="3200" spc="-1" strike="noStrike">
                <a:solidFill>
                  <a:srgbClr val="000000"/>
                </a:solidFill>
                <a:latin typeface="Sakkal Majalla"/>
                <a:cs typeface="Sakkal Majalla"/>
              </a:rPr>
              <a:t>، إرسال </a:t>
            </a:r>
            <a:r>
              <a:rPr b="0" lang="ar-SY" sz="3200" spc="-1" strike="noStrike">
                <a:solidFill>
                  <a:srgbClr val="000000"/>
                </a:solidFill>
                <a:latin typeface="Sakkal Majalla"/>
                <a:cs typeface="Sakkal Majalla"/>
              </a:rPr>
              <a:t>ب</a:t>
            </a:r>
            <a:r>
              <a:rPr b="0" lang="ar-YE" sz="3200" spc="-1" strike="noStrike">
                <a:solidFill>
                  <a:srgbClr val="000000"/>
                </a:solidFill>
                <a:latin typeface="Sakkal Majalla"/>
                <a:cs typeface="Sakkal Majalla"/>
              </a:rPr>
              <a:t>ريد إلكتروني عند</a:t>
            </a:r>
            <a:r>
              <a:rPr b="0" lang="ar-SY" sz="3200" spc="-1" strike="noStrike">
                <a:solidFill>
                  <a:srgbClr val="000000"/>
                </a:solidFill>
                <a:latin typeface="Sakkal Majalla"/>
                <a:ea typeface="Sakkal Majalla"/>
              </a:rPr>
              <a:t> الإمكان</a:t>
            </a:r>
            <a:r>
              <a:rPr b="0" lang="ar-YE"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في بعض الحالات، يعد ذلك </a:t>
            </a:r>
            <a:r>
              <a:rPr b="0" lang="ar-SY" sz="3200" spc="-1" strike="noStrike">
                <a:solidFill>
                  <a:srgbClr val="000000"/>
                </a:solidFill>
                <a:latin typeface="Sakkal Majalla"/>
                <a:cs typeface="Sakkal Majalla"/>
              </a:rPr>
              <a:t>شرطا </a:t>
            </a:r>
            <a:r>
              <a:rPr b="0" lang="ar-YE" sz="3200" spc="-1" strike="noStrike">
                <a:solidFill>
                  <a:srgbClr val="000000"/>
                </a:solidFill>
                <a:latin typeface="Sakkal Majalla"/>
                <a:ea typeface="Sakkal Majalla"/>
              </a:rPr>
              <a:t>(</a:t>
            </a:r>
            <a:r>
              <a:rPr b="0" lang="ar-SY" sz="3200" spc="-1" strike="noStrike">
                <a:solidFill>
                  <a:srgbClr val="000000"/>
                </a:solidFill>
                <a:latin typeface="Sakkal Majalla"/>
                <a:cs typeface="Sakkal Majalla"/>
              </a:rPr>
              <a:t>مثلا</a:t>
            </a:r>
            <a:r>
              <a:rPr b="0" lang="ar-YE" sz="3200" spc="-1" strike="noStrike">
                <a:solidFill>
                  <a:srgbClr val="000000"/>
                </a:solidFill>
                <a:latin typeface="Sakkal Majalla"/>
                <a:cs typeface="Sakkal Majalla"/>
              </a:rPr>
              <a:t>،</a:t>
            </a:r>
            <a:r>
              <a:rPr b="0" lang="ar-SY" sz="3200" spc="-1" strike="noStrike">
                <a:solidFill>
                  <a:srgbClr val="000000"/>
                </a:solidFill>
                <a:latin typeface="Sakkal Majalla"/>
                <a:ea typeface="Sakkal Majalla"/>
              </a:rPr>
              <a:t> الأمر الأوروبي بالتحقيق</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a:t>
            </a:r>
            <a:r>
              <a:rPr b="0" lang="fr-FR" sz="3200" spc="-1" strike="noStrike">
                <a:solidFill>
                  <a:srgbClr val="000000"/>
                </a:solidFill>
                <a:latin typeface="Sakkal Majalla"/>
                <a:ea typeface="Sakkal Majalla"/>
              </a:rPr>
              <a:t>EIO</a:t>
            </a:r>
            <a:r>
              <a:rPr b="0" lang="ar-SY" sz="3200" spc="-1" strike="noStrike">
                <a:solidFill>
                  <a:srgbClr val="000000"/>
                </a:solidFill>
                <a:latin typeface="Sakkal Majalla"/>
                <a:ea typeface="Sakkal Majalla"/>
              </a:rPr>
              <a:t>)</a:t>
            </a:r>
            <a:r>
              <a:rPr b="0" lang="fr-FR"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داخل الاتحاد الأوروبي</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0C1528A-79D9-4CBF-96E3-961CA7E66C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680"/>
            <a:ext cx="8580600" cy="1334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ند تحليل طلب المساعدة القانونية المتبادلة من أجل التنفيذ:</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fontScale="89000"/>
          </a:bodyPr>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طبيق الاتفاقية/المعاهدة ذات الصلة (شكلا وموضوعا، المرفقات ذات الصلة...)</a:t>
            </a: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طبيق القانون الوطني</a:t>
            </a:r>
            <a:endParaRPr b="0" lang="en-US" sz="2800" spc="-1" strike="noStrike">
              <a:solidFill>
                <a:srgbClr val="000000"/>
              </a:solidFill>
              <a:latin typeface="Calibri"/>
            </a:endParaRPr>
          </a:p>
          <a:p>
            <a:pPr marL="305280" indent="-305280" algn="r"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r"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بل وكذلك:</a:t>
            </a:r>
            <a:endParaRPr b="0" lang="en-US" sz="2800" spc="-1" strike="noStrike">
              <a:solidFill>
                <a:srgbClr val="000000"/>
              </a:solidFill>
              <a:latin typeface="Calibri"/>
            </a:endParaRPr>
          </a:p>
          <a:p>
            <a:pPr marL="305280" indent="-305280" algn="r"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مرونة عند الإمكان</a:t>
            </a: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تواصل مع المرسل عند الضرورة</a:t>
            </a: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ديم معلومات/شروحات إلى المرسل في حال رفض تقديم المساعدة</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55829A-87BF-4533-86F1-4B8C3FEFC3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22400"/>
            <a:ext cx="8229600" cy="13795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ذا بدا القانون الوطني معارضا لتنفيذ الطلب:</a:t>
            </a:r>
            <a:endParaRPr b="0" lang="en-US" sz="5400" spc="-1" strike="noStrike">
              <a:solidFill>
                <a:srgbClr val="000000"/>
              </a:solidFill>
              <a:latin typeface="Calibri"/>
            </a:endParaRPr>
          </a:p>
        </p:txBody>
      </p:sp>
      <p:sp>
        <p:nvSpPr>
          <p:cNvPr id="197" name=""/>
          <p:cNvSpPr txBox="1"/>
          <p:nvPr/>
        </p:nvSpPr>
        <p:spPr>
          <a:xfrm>
            <a:off x="347760" y="1626840"/>
            <a:ext cx="8229600" cy="475596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بحث عن التدابير الأخرى التي يمكن مع ذلك تنفيذها</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بحث عن بدائل قانونية، إن وجدت، التي يمكن أن تحقق نفس الهدف – علاوة على التدابير المؤقتة لضمان حماية الأدلة</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واصل مع السلطة مقدمة الطلب قبل صدور القرار النهائية عند الإمكان لمناقشة البدائل أو المعلومات الإضافية المطلوبة لتمكين التنفيذ</a:t>
            </a:r>
            <a:endParaRPr b="0" lang="en-US" sz="32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8201C95-F312-484F-9DC8-62F4774029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واصل بين السلطات: المادة </a:t>
            </a:r>
            <a:r>
              <a:rPr b="1" lang="ar-SY" sz="4400" spc="-1" strike="noStrike">
                <a:solidFill>
                  <a:srgbClr val="000000"/>
                </a:solidFill>
                <a:latin typeface="Sakkal Majalla"/>
                <a:ea typeface="Sakkal Majalla"/>
              </a:rPr>
              <a:t>27</a:t>
            </a:r>
            <a:r>
              <a:rPr b="1" lang="ar-SY" sz="4400" spc="-1" strike="noStrike">
                <a:solidFill>
                  <a:srgbClr val="000000"/>
                </a:solidFill>
                <a:latin typeface="Sakkal Majalla"/>
                <a:ea typeface="Sakkal Majalla"/>
              </a:rPr>
              <a:t> من اتفاقية بودابست</a:t>
            </a:r>
            <a:endParaRPr b="0" lang="en-US" sz="44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87000"/>
          </a:bodyPr>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200" spc="-1" strike="noStrike">
                <a:solidFill>
                  <a:srgbClr val="000000"/>
                </a:solidFill>
                <a:latin typeface="Sakkal Majalla"/>
                <a:cs typeface="Sakkal Majalla"/>
              </a:rPr>
              <a:t>المادة </a:t>
            </a:r>
            <a:r>
              <a:rPr b="1" lang="ar-EG" sz="3200" spc="-1" strike="noStrike">
                <a:solidFill>
                  <a:srgbClr val="000000"/>
                </a:solidFill>
                <a:latin typeface="Sakkal Majalla"/>
                <a:ea typeface="Sakkal Majalla"/>
              </a:rPr>
              <a:t>27</a:t>
            </a:r>
            <a:r>
              <a:rPr b="1" lang="ar-EG" sz="3200" spc="-1" strike="noStrike">
                <a:solidFill>
                  <a:srgbClr val="000000"/>
                </a:solidFill>
                <a:latin typeface="Sakkal Majalla"/>
                <a:ea typeface="Sakkal Majalla"/>
              </a:rPr>
              <a:t> – الإجراءات المتعلقة بطلبات المساعدة المتبادلة في حال عدم وجود اتفاقات دولية واجبة التطبيق</a:t>
            </a:r>
            <a:endParaRPr b="0" lang="en-US" sz="3200" spc="-1" strike="noStrike">
              <a:solidFill>
                <a:srgbClr val="000000"/>
              </a:solidFill>
              <a:latin typeface="Calibri"/>
            </a:endParaRPr>
          </a:p>
          <a:p>
            <a:pPr marL="298440" indent="-29844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29844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800" spc="-1" strike="noStrike">
                <a:solidFill>
                  <a:srgbClr val="000000"/>
                </a:solidFill>
                <a:latin typeface="Sakkal Majalla"/>
                <a:cs typeface="Sakkal Majalla"/>
              </a:rPr>
              <a:t>في حالة عدم وجود أي معاهدة أو ترتيب بشأن المساعدة المتبادلة على أساس تشريع موحد ومتعلق بمبدأ المعاملة بالمثل بين الدولة الطرف المقدمة للطلب والدولة الطرف المطلوب منها، تطبق أحكام الفقرات من </a:t>
            </a:r>
            <a:r>
              <a:rPr b="0" lang="ar-EG" sz="2800" spc="-1" strike="noStrike">
                <a:solidFill>
                  <a:srgbClr val="000000"/>
                </a:solidFill>
                <a:latin typeface="Sakkal Majalla"/>
                <a:ea typeface="Sakkal Majalla"/>
              </a:rPr>
              <a:t>2</a:t>
            </a:r>
            <a:r>
              <a:rPr b="0" lang="ar-EG" sz="2800" spc="-1" strike="noStrike">
                <a:solidFill>
                  <a:srgbClr val="000000"/>
                </a:solidFill>
                <a:latin typeface="Sakkal Majalla"/>
                <a:ea typeface="Sakkal Majalla"/>
              </a:rPr>
              <a:t> إلى </a:t>
            </a:r>
            <a:r>
              <a:rPr b="0" lang="ar-EG" sz="2800" spc="-1" strike="noStrike">
                <a:solidFill>
                  <a:srgbClr val="000000"/>
                </a:solidFill>
                <a:latin typeface="Sakkal Majalla"/>
                <a:ea typeface="Sakkal Majalla"/>
              </a:rPr>
              <a:t>9</a:t>
            </a:r>
            <a:r>
              <a:rPr b="0" lang="ar-EG" sz="2800" spc="-1" strike="noStrike">
                <a:solidFill>
                  <a:srgbClr val="000000"/>
                </a:solidFill>
                <a:latin typeface="Sakkal Majalla"/>
                <a:ea typeface="Sakkal Majalla"/>
              </a:rPr>
              <a:t> من هذه المادة. ولا تطبق أحكام هذه المادة في حال وجود معاهدة أو ترتيب أو تشريع من هذا القبيل، ما لم توافق الأطراف المعنية على تطبيق أي أو كل البنود الباقية من هذه المادة بدلا منها</a:t>
            </a:r>
            <a:r>
              <a:rPr b="0" lang="ar-SY" sz="2800" spc="-1" strike="noStrike">
                <a:solidFill>
                  <a:srgbClr val="000000"/>
                </a:solidFill>
                <a:latin typeface="Sakkal Majalla"/>
                <a:ea typeface="Sakkal Majalla"/>
              </a:rPr>
              <a:t> (...)</a:t>
            </a:r>
            <a:endParaRPr b="0" lang="en-US" sz="28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97A35-FC90-443E-A435-9E7A4A192D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ادة </a:t>
            </a:r>
            <a:r>
              <a:rPr b="1" lang="ar-SY" sz="5400" spc="-1" strike="noStrike">
                <a:solidFill>
                  <a:srgbClr val="000000"/>
                </a:solidFill>
                <a:latin typeface="Sakkal Majalla"/>
                <a:ea typeface="Sakkal Majalla"/>
              </a:rPr>
              <a:t>27</a:t>
            </a:r>
            <a:r>
              <a:rPr b="1" lang="ar-SY" sz="5400" spc="-1" strike="noStrike">
                <a:solidFill>
                  <a:srgbClr val="000000"/>
                </a:solidFill>
                <a:latin typeface="Sakkal Majalla"/>
                <a:ea typeface="Sakkal Majalla"/>
              </a:rPr>
              <a:t> من اتفاقية بودابست</a:t>
            </a:r>
            <a:endParaRPr b="0" lang="en-US" sz="5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85000"/>
          </a:bodyPr>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ea typeface="Sakkal Majalla"/>
              </a:rPr>
              <a:t>(...) </a:t>
            </a:r>
            <a:r>
              <a:rPr b="0" lang="ar-EG" sz="2800" spc="-1" strike="noStrike">
                <a:solidFill>
                  <a:srgbClr val="000000"/>
                </a:solidFill>
                <a:latin typeface="Sakkal Majalla"/>
                <a:cs typeface="Sakkal Majalla"/>
              </a:rPr>
              <a:t>قبل رفض أو تأجيل تقديم المساعدة، تقوم الدولة الطرف المطلوب منها تقديم المساعدة، عند الاقتضاء وبعد التشاور مع الدولة الطرف مقدمة الطلب، بالنظر في إمكانية تنفيذ الطلب جزئياً أو إخضاعه للشروط التي تراها ضرورية.</a:t>
            </a:r>
            <a:endParaRPr b="0" lang="en-US" sz="2800" spc="-1" strike="noStrike">
              <a:solidFill>
                <a:srgbClr val="000000"/>
              </a:solidFill>
              <a:latin typeface="Calibri"/>
            </a:endParaRPr>
          </a:p>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2800" spc="-1" strike="noStrike">
                <a:solidFill>
                  <a:srgbClr val="000000"/>
                </a:solidFill>
                <a:latin typeface="Sakkal Majalla"/>
                <a:cs typeface="Sakkal Majalla"/>
              </a:rPr>
              <a:t>تخبر الدولة الطرف المطلوب منها تقديم المساعدة على الفور الدولة الطرف مقدمة الطلب بنتيجة تنفيذ الطلب الخاص بالمساعدة</a:t>
            </a:r>
            <a:r>
              <a:rPr b="0" lang="ar-EG" sz="2800" spc="-1" strike="noStrike">
                <a:solidFill>
                  <a:srgbClr val="000000"/>
                </a:solidFill>
                <a:latin typeface="Sakkal Majalla"/>
                <a:ea typeface="Sakkal Majalla"/>
              </a:rPr>
              <a:t>. ويتوجب شرح الأسباب أي رفض أو تأجيل للطلب. علاوة على ذلك، تخبر الدولة الطرف المطلوب منها المساعدة الطرف مقدم الطلب بالأسباب التي تجعل تنفيذ الطلب مستحيلا أو التي من المحتمل أن تؤخره بشكل هام.</a:t>
            </a:r>
            <a:r>
              <a:rPr b="0" lang="ar-SY" sz="2800" spc="-1" strike="noStrike">
                <a:solidFill>
                  <a:srgbClr val="000000"/>
                </a:solidFill>
                <a:latin typeface="Sakkal Majalla"/>
                <a:ea typeface="Sakkal Majalla"/>
              </a:rPr>
              <a:t> </a:t>
            </a:r>
            <a:r>
              <a:rPr b="0" lang="fr-FR" sz="2800" spc="-1" strike="noStrike">
                <a:solidFill>
                  <a:srgbClr val="000000"/>
                </a:solidFill>
                <a:latin typeface="Sakkal Majalla"/>
                <a:ea typeface="Sakkal Majalla"/>
              </a:rPr>
              <a:t>(…)</a:t>
            </a:r>
            <a:endParaRPr b="0" lang="en-US" sz="28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79E53-9BCB-4CDF-B15D-33D7D67787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حكام ومقتضيات القانون الوطني</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076743F-1302-47E6-8BCF-9464CFA95C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حكام ومقتضيات القانون الوطني</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0E6E66-0D52-4813-A04D-83456B53EE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حكام ومقتضيات القانون الوطني</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F4D04E5-94D6-4B95-8F27-6238E24538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سيادة الدول داخل أقاليمها</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رمي الاتفاقيات الدولية إلى الحفاظ على السيادة الوطنية عند تنظيم سبل التعاون</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كون الأسس المبررة للرفض عامة محدودة بموجب الاتفاقيات</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لكل دولة معايير خاصة بشأن إمكانية تطبيق قانونها الوطني في الخارج</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هدف الاتفاقيات الدولية أيضا إلى الحفاظ على صلاحيات وإجراءات السلطات الوطنية الواجب اتباعها في البلد الموجه إليه الطلب</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32580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رتكز المساعدة القانونية المتبادلة على المبادئ الرئيسية التالية:</a:t>
            </a:r>
            <a:endParaRPr b="0" lang="en-US" sz="44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4CD0A10-38CD-43F1-AA6A-10E759DE17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910880"/>
            <a:ext cx="8229600" cy="19796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خامس</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7974ED7-AD02-49DF-B0D0-1F352F6621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حسين </a:t>
            </a:r>
            <a:r>
              <a:rPr b="0" lang="ar-SA" sz="3200" spc="-1" strike="noStrike">
                <a:solidFill>
                  <a:srgbClr val="000000"/>
                </a:solidFill>
                <a:latin typeface="Sakkal Majalla"/>
                <a:cs typeface="Sakkal Majalla"/>
              </a:rPr>
              <a:t>أو </a:t>
            </a:r>
            <a:r>
              <a:rPr b="0" lang="ar-SY" sz="3200" spc="-1" strike="noStrike">
                <a:solidFill>
                  <a:srgbClr val="000000"/>
                </a:solidFill>
                <a:latin typeface="Sakkal Majalla"/>
                <a:cs typeface="Sakkal Majalla"/>
              </a:rPr>
              <a:t>تحديث معرفتهم ل</a:t>
            </a:r>
            <a:r>
              <a:rPr b="0" lang="ar-SA" sz="3200" spc="-1" strike="noStrike">
                <a:solidFill>
                  <a:srgbClr val="000000"/>
                </a:solidFill>
                <a:latin typeface="Sakkal Majalla"/>
                <a:cs typeface="Sakkal Majalla"/>
              </a:rPr>
              <a:t>لمبادئ </a:t>
            </a:r>
            <a:r>
              <a:rPr b="0" lang="ar-SY" sz="3200" spc="-1" strike="noStrike">
                <a:solidFill>
                  <a:srgbClr val="000000"/>
                </a:solidFill>
                <a:latin typeface="Sakkal Majalla"/>
                <a:cs typeface="Sakkal Majalla"/>
              </a:rPr>
              <a:t>العامة </a:t>
            </a:r>
            <a:r>
              <a:rPr b="0" lang="ar-SA" sz="3200" spc="-1" strike="noStrike">
                <a:solidFill>
                  <a:srgbClr val="000000"/>
                </a:solidFill>
                <a:latin typeface="Sakkal Majalla"/>
                <a:cs typeface="Sakkal Majalla"/>
              </a:rPr>
              <a:t>للمساعدة القانونية المتبادلة </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عرفة طريقة تعزيز حظوظ تنفيذ طلب بالمساعدة القانونية المتبادلة عند مرحلة </a:t>
            </a:r>
            <a:r>
              <a:rPr b="0" lang="ar-SA" sz="3200" spc="-1" strike="noStrike">
                <a:solidFill>
                  <a:srgbClr val="000000"/>
                </a:solidFill>
                <a:latin typeface="Sakkal Majalla"/>
                <a:cs typeface="Sakkal Majalla"/>
              </a:rPr>
              <a:t>صياغة الطلب</a:t>
            </a:r>
            <a:r>
              <a:rPr b="0" lang="ar-SA" sz="3200" spc="-1" strike="noStrike">
                <a:solidFill>
                  <a:srgbClr val="000000"/>
                </a:solidFill>
                <a:latin typeface="Sakkal Majalla"/>
                <a:ea typeface="Sakkal Majalla"/>
              </a:rPr>
              <a:t>	</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وخي الفعالية عند تلقي </a:t>
            </a:r>
            <a:r>
              <a:rPr b="0" lang="ar-SA" sz="3200" spc="-1" strike="noStrike">
                <a:solidFill>
                  <a:srgbClr val="000000"/>
                </a:solidFill>
                <a:latin typeface="Sakkal Majalla"/>
                <a:cs typeface="Sakkal Majalla"/>
              </a:rPr>
              <a:t>طلبات </a:t>
            </a:r>
            <a:r>
              <a:rPr b="0" lang="ar-SY" sz="3200" spc="-1" strike="noStrike">
                <a:solidFill>
                  <a:srgbClr val="000000"/>
                </a:solidFill>
                <a:latin typeface="Sakkal Majalla"/>
                <a:cs typeface="Sakkal Majalla"/>
              </a:rPr>
              <a:t>بالمساعدة القانونية المتبادلة من دولة أجنبية</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F144FC1-6279-4D77-A30C-282BB40A3D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FD5AA3-EF56-4D20-A279-49391EA4D2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2"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800" spc="-1" strike="noStrike">
                <a:solidFill>
                  <a:srgbClr val="000000"/>
                </a:solidFill>
                <a:latin typeface="Sakkal Majalla"/>
                <a:cs typeface="Sakkal Majalla"/>
              </a:rPr>
              <a:t>التحديات الجديدة للتعاون الدولي:</a:t>
            </a:r>
            <a:endParaRPr b="0" lang="en-US" sz="48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fontScale="96000"/>
          </a:bodyPr>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ستخدام الهواتف والحواسيب عبر الحدود لارتكاب الجرائم</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ستخدام تطبيقات/بريد إلكتروني/رسائل مشفرة للتواصل عبر الحدود مع شركاء في الجريمة</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واجد الأدلة في الخارج</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لب البيانات التي تشكل جزءا من الأدلة</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دة عملية المساعدة القانونية المتبادلة العادية.</a:t>
            </a:r>
            <a:endParaRPr b="0" lang="en-US" sz="32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0D769E-6531-4AEE-8DC0-27B26B9B39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واقع القضائي مقابل الواقع الرقمي</a:t>
            </a:r>
            <a:endParaRPr b="0" lang="en-US" sz="3600" spc="-1" strike="noStrike">
              <a:solidFill>
                <a:srgbClr val="000000"/>
              </a:solidFill>
              <a:latin typeface="Calibri"/>
            </a:endParaRPr>
          </a:p>
        </p:txBody>
      </p:sp>
      <p:sp>
        <p:nvSpPr>
          <p:cNvPr id="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9673FF-1BCC-4C62-A47E-08E811B5F7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aphicFrame>
        <p:nvGraphicFramePr>
          <p:cNvPr id="72" name=""/>
          <p:cNvGraphicFramePr/>
          <p:nvPr/>
        </p:nvGraphicFramePr>
        <p:xfrm>
          <a:off x="965160" y="1190520"/>
          <a:ext cx="7483680" cy="4692600"/>
        </p:xfrm>
        <a:graphic>
          <a:graphicData uri="http://schemas.openxmlformats.org/drawingml/2006/table">
            <a:tbl>
              <a:tblPr/>
              <a:tblGrid>
                <a:gridCol w="3770280"/>
                <a:gridCol w="3713400"/>
              </a:tblGrid>
              <a:tr h="7499160">
                <a:tc>
                  <a:txBody>
                    <a:bodyPr lIns="74160" rIns="74160" tIns="37080" bIns="37080" anchor="t">
                      <a:noAutofit/>
                    </a:bodyPr>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ثوان لتبادل الملفات وارتكاب الجريم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آثار غير مرئية للجريمة (الضحايا؟)</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آثار دولية للجريمة والأدلة متواجدة في أي مكان</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يصعب العثور على الأدلة الإلكترونية، وهي شديدة التقلب، وأحيانا مشفر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شدة تقلب الأدلة الإلكتروني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عدم التأكد من مكان وجود البيانات</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لا تزال ثمة حاجة إلى موظفي وكالات إنفاذ القانون، ومدعين عامين وقضاة متخصصين نظرا لتطور التكنولوجيا باستمرار ولأن المحامين ليسوا دائما عباقرة في المعلوماتية.</a:t>
                      </a:r>
                      <a:endParaRPr b="0" lang="en-US" sz="2000" spc="-1" strike="noStrike">
                        <a:solidFill>
                          <a:srgbClr val="000000"/>
                        </a:solidFill>
                        <a:latin typeface="Arial"/>
                      </a:endParaRPr>
                    </a:p>
                  </a:txBody>
                  <a:tcPr anchor="t" marL="74160" marR="74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74160" rIns="74160" tIns="37080" bIns="37080" anchor="t">
                      <a:noAutofit/>
                    </a:bodyPr>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بعض الوقت لارتكاب الجريم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آثار مرئية للجريمة (الضحايا)</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اختصاص إقليمي وسياد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الأدلة عادة مرئية بالعين المجردة (سجلات بنكية، دم، سكين، حمض نووي...)</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الحاجة إلى الوقت للتحقيق وجمع الأدل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سهولة تحديد المكان الذي سيجري فيه التحقيق</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عادة، موظفو وكالات إنفاذ القانون، والمدعون العامون والقضاة متخصصون</a:t>
                      </a:r>
                      <a:endParaRPr b="0" lang="en-US" sz="2000" spc="-1" strike="noStrike">
                        <a:solidFill>
                          <a:srgbClr val="000000"/>
                        </a:solidFill>
                        <a:latin typeface="Arial"/>
                      </a:endParaRPr>
                    </a:p>
                  </a:txBody>
                  <a:tcPr anchor="t" marL="74160" marR="74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800" spc="-1" strike="noStrike">
                <a:solidFill>
                  <a:srgbClr val="000000"/>
                </a:solidFill>
                <a:latin typeface="Sakkal Majalla"/>
                <a:cs typeface="Sakkal Majalla"/>
              </a:rPr>
              <a:t>التحدي</a:t>
            </a:r>
            <a:endParaRPr b="0" lang="en-US" sz="48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الحاجة إلى احترام سيادة الدول الأخرى والامتثال للاتفاقيات الدولية</a:t>
            </a: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مقابل</a:t>
            </a: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الحاجة إلى مزيد من الفعالية والسرعة في جمع الأدلة الإلكترونية وإلقاء القبض على المجرمين</a:t>
            </a:r>
            <a:endParaRPr b="0" lang="en-US" sz="36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9439F2-4638-4AA2-BE0F-9BDAB7BC14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admin</cp:lastModifiedBy>
  <cp:lastPrinted>2017-06-04T15:39:20Z</cp:lastPrinted>
  <dcterms:modified xsi:type="dcterms:W3CDTF">2018-09-11T00:27:15Z</dcterms:modified>
  <cp:revision>190</cp:revision>
  <dc:subject/>
  <dc:title>Introductory Cybercrime Training for Judges and Prosecutors</dc:title>
</cp:coreProperties>
</file>